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.gif" ContentType="image/gif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7A7A-12C3-46C0-B935-C4F35B36FB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F0F-3ABC-4C35-A9B5-4EF353FA71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1A4-E7E4-49A8-8625-E2E44043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7F0-F272-453B-BDE4-94F7C54C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B54-2B68-4521-B245-1B60DE52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3D2-9ECA-4EF2-B526-6A9C9559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BCFA-CAB3-4547-9D03-B1DA09C6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1796-A24B-4CB8-96D8-D4B36FE0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7FC6-E10C-4A29-BAAC-B807F8E8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EC34-6A2C-4228-AED6-CA9CD3E9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17F3-D568-4F70-818F-BDD81FD4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C3AA-DA61-4F51-86F6-1524A612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FB9B-65EC-4ABD-8CAF-984E085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678-21F4-41C2-8EF7-8FCD4582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7D0E-FF2F-4BB6-9AED-8D5C791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5555-AFD3-4A1B-9F8E-91EDC03F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98B-0599-4BFE-AE8D-0AFE2D62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755C-EFAC-49FE-A290-1E7D321C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89BF-08F6-4C36-9913-EFBE3D82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848-DC83-419A-9516-E757808D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145-1EBF-40EA-9E11-E4C882F7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2C6-02F5-4703-A103-770A23A2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3FE-C170-4AC3-A8D9-157F724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B01-2AD2-418A-9A7F-10AD0FE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E7A-B40E-46C1-8031-8CBFD49A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C04-4819-4017-96F1-FF577ADE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DBE4-7328-48C0-B231-C455399ECC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2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3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5E36-B929-4A9C-9FB8-3F6567F519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jpeg"/><Relationship Id="rId13" Type="http://schemas.openxmlformats.org/officeDocument/2006/relationships/image" Target="../media/image51.jpe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"/>
          <p:cNvPicPr/>
          <p:nvPr/>
        </p:nvPicPr>
        <p:blipFill>
          <a:blip r:embed="rId1"/>
          <a:stretch/>
        </p:blipFill>
        <p:spPr>
          <a:xfrm>
            <a:off x="0" y="-182520"/>
            <a:ext cx="9307440" cy="6993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4640" y="347292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Управление дошкольных подразделений 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ОО «Газпром Добыча Уренгой»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етский сад «Родничок»</a:t>
            </a:r>
            <a:br>
              <a:rPr sz="20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Кукла в национальной одежде народов Ямала»</a:t>
            </a:r>
            <a:br>
              <a:rPr sz="4400"/>
            </a:b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дготовил: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                       Воспитатель: Горбунова В.В.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                                                 </a:t>
            </a:r>
            <a:br>
              <a:rPr sz="1600"/>
            </a:b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398840"/>
            <a:ext cx="64008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Рисунок 5" descr=""/>
          <p:cNvPicPr/>
          <p:nvPr/>
        </p:nvPicPr>
        <p:blipFill>
          <a:blip r:embed="rId2"/>
          <a:stretch/>
        </p:blipFill>
        <p:spPr>
          <a:xfrm>
            <a:off x="7068960" y="-31752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1" descr=""/>
          <p:cNvPicPr/>
          <p:nvPr/>
        </p:nvPicPr>
        <p:blipFill>
          <a:blip r:embed="rId3"/>
          <a:stretch/>
        </p:blipFill>
        <p:spPr>
          <a:xfrm>
            <a:off x="590400" y="-12708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1" descr=""/>
          <p:cNvPicPr/>
          <p:nvPr/>
        </p:nvPicPr>
        <p:blipFill>
          <a:blip r:embed="rId4"/>
          <a:stretch/>
        </p:blipFill>
        <p:spPr>
          <a:xfrm>
            <a:off x="1827360" y="266760"/>
            <a:ext cx="1904760" cy="238104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1" descr=""/>
          <p:cNvPicPr/>
          <p:nvPr/>
        </p:nvPicPr>
        <p:blipFill>
          <a:blip r:embed="rId5"/>
          <a:stretch/>
        </p:blipFill>
        <p:spPr>
          <a:xfrm>
            <a:off x="5594400" y="23652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3" descr=""/>
          <p:cNvPicPr/>
          <p:nvPr/>
        </p:nvPicPr>
        <p:blipFill>
          <a:blip r:embed="rId6"/>
          <a:stretch/>
        </p:blipFill>
        <p:spPr>
          <a:xfrm>
            <a:off x="6546960" y="3352680"/>
            <a:ext cx="2028600" cy="15256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4" descr=""/>
          <p:cNvPicPr/>
          <p:nvPr/>
        </p:nvPicPr>
        <p:blipFill>
          <a:blip r:embed="rId7"/>
          <a:stretch/>
        </p:blipFill>
        <p:spPr>
          <a:xfrm>
            <a:off x="1841400" y="3314880"/>
            <a:ext cx="1621080" cy="12222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5" descr=""/>
          <p:cNvPicPr/>
          <p:nvPr/>
        </p:nvPicPr>
        <p:blipFill>
          <a:blip r:embed="rId8"/>
          <a:stretch/>
        </p:blipFill>
        <p:spPr>
          <a:xfrm>
            <a:off x="663480" y="4317840"/>
            <a:ext cx="1463760" cy="18590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2" descr=""/>
          <p:cNvPicPr/>
          <p:nvPr/>
        </p:nvPicPr>
        <p:blipFill>
          <a:blip r:embed="rId9"/>
          <a:stretch/>
        </p:blipFill>
        <p:spPr>
          <a:xfrm>
            <a:off x="3662280" y="4137120"/>
            <a:ext cx="2741760" cy="2055600"/>
          </a:xfrm>
          <a:prstGeom prst="rect">
            <a:avLst/>
          </a:prstGeom>
          <a:ln cap="sq" w="2844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4" name="Рисунок 5" descr=""/>
          <p:cNvPicPr/>
          <p:nvPr/>
        </p:nvPicPr>
        <p:blipFill>
          <a:blip r:embed="rId10"/>
          <a:stretch/>
        </p:blipFill>
        <p:spPr>
          <a:xfrm>
            <a:off x="6788160" y="420840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"/>
          <p:cNvPicPr/>
          <p:nvPr/>
        </p:nvPicPr>
        <p:blipFill>
          <a:blip r:embed="rId11"/>
          <a:stretch/>
        </p:blipFill>
        <p:spPr>
          <a:xfrm>
            <a:off x="2035080" y="404640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Объект 2" descr=""/>
          <p:cNvPicPr/>
          <p:nvPr/>
        </p:nvPicPr>
        <p:blipFill>
          <a:blip r:embed="rId1"/>
          <a:stretch/>
        </p:blipFill>
        <p:spPr>
          <a:xfrm>
            <a:off x="0" y="-57240"/>
            <a:ext cx="9258480" cy="691524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3"/>
          <p:cNvSpPr/>
          <p:nvPr/>
        </p:nvSpPr>
        <p:spPr>
          <a:xfrm>
            <a:off x="762120" y="60948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Рисунок 3" descr=""/>
          <p:cNvPicPr/>
          <p:nvPr/>
        </p:nvPicPr>
        <p:blipFill>
          <a:blip r:embed="rId2"/>
          <a:stretch/>
        </p:blipFill>
        <p:spPr>
          <a:xfrm>
            <a:off x="7091280" y="-18108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3" descr=""/>
          <p:cNvPicPr/>
          <p:nvPr/>
        </p:nvPicPr>
        <p:blipFill>
          <a:blip r:embed="rId3"/>
          <a:stretch/>
        </p:blipFill>
        <p:spPr>
          <a:xfrm>
            <a:off x="493560" y="44766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650880" y="609480"/>
            <a:ext cx="77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Рисунок 1" descr=""/>
          <p:cNvPicPr/>
          <p:nvPr/>
        </p:nvPicPr>
        <p:blipFill>
          <a:blip r:embed="rId4"/>
          <a:stretch/>
        </p:blipFill>
        <p:spPr>
          <a:xfrm>
            <a:off x="825480" y="630360"/>
            <a:ext cx="3306960" cy="45241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2" descr=""/>
          <p:cNvPicPr/>
          <p:nvPr/>
        </p:nvPicPr>
        <p:blipFill>
          <a:blip r:embed="rId5"/>
          <a:stretch/>
        </p:blipFill>
        <p:spPr>
          <a:xfrm>
            <a:off x="4863960" y="1852560"/>
            <a:ext cx="3400560" cy="4410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3" descr=""/>
          <p:cNvPicPr/>
          <p:nvPr/>
        </p:nvPicPr>
        <p:blipFill>
          <a:blip r:embed="rId1"/>
          <a:stretch/>
        </p:blipFill>
        <p:spPr>
          <a:xfrm>
            <a:off x="-17640" y="468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5"/>
          <p:cNvSpPr/>
          <p:nvPr/>
        </p:nvSpPr>
        <p:spPr>
          <a:xfrm>
            <a:off x="600120" y="503280"/>
            <a:ext cx="79246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Основной </a:t>
            </a: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Походы «Выходного дня»- «Центр творчества», ЦНК «Монтажн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готовление национальной одежды народов Яма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астер-класс с родителями по изготовлению кукол в национальной       одежде народов Ямала (Селькупов, Ненцев, Хантов)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Рисунок 6" descr=""/>
          <p:cNvPicPr/>
          <p:nvPr/>
        </p:nvPicPr>
        <p:blipFill>
          <a:blip r:embed="rId2"/>
          <a:stretch/>
        </p:blipFill>
        <p:spPr>
          <a:xfrm>
            <a:off x="6877080" y="-112680"/>
            <a:ext cx="1741320" cy="2178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"/>
          <p:cNvPicPr/>
          <p:nvPr/>
        </p:nvPicPr>
        <p:blipFill>
          <a:blip r:embed="rId3"/>
          <a:stretch/>
        </p:blipFill>
        <p:spPr>
          <a:xfrm>
            <a:off x="708120" y="430200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"/>
          <p:cNvPicPr/>
          <p:nvPr/>
        </p:nvPicPr>
        <p:blipFill>
          <a:blip r:embed="rId4"/>
          <a:stretch/>
        </p:blipFill>
        <p:spPr>
          <a:xfrm>
            <a:off x="861840" y="2816280"/>
            <a:ext cx="1581480" cy="120024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"/>
          <p:cNvPicPr/>
          <p:nvPr/>
        </p:nvPicPr>
        <p:blipFill>
          <a:blip r:embed="rId5"/>
          <a:stretch/>
        </p:blipFill>
        <p:spPr>
          <a:xfrm>
            <a:off x="5181480" y="4478400"/>
            <a:ext cx="2114640" cy="16574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7" descr=""/>
          <p:cNvPicPr/>
          <p:nvPr/>
        </p:nvPicPr>
        <p:blipFill>
          <a:blip r:embed="rId6"/>
          <a:stretch/>
        </p:blipFill>
        <p:spPr>
          <a:xfrm>
            <a:off x="6676920" y="273852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8" descr=""/>
          <p:cNvPicPr/>
          <p:nvPr/>
        </p:nvPicPr>
        <p:blipFill>
          <a:blip r:embed="rId7"/>
          <a:stretch/>
        </p:blipFill>
        <p:spPr>
          <a:xfrm>
            <a:off x="2657520" y="472608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9" descr=""/>
          <p:cNvPicPr/>
          <p:nvPr/>
        </p:nvPicPr>
        <p:blipFill>
          <a:blip r:embed="rId8"/>
          <a:stretch/>
        </p:blipFill>
        <p:spPr>
          <a:xfrm>
            <a:off x="3260880" y="2816280"/>
            <a:ext cx="2077920" cy="1565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3" descr=""/>
          <p:cNvPicPr/>
          <p:nvPr/>
        </p:nvPicPr>
        <p:blipFill>
          <a:blip r:embed="rId1"/>
          <a:stretch/>
        </p:blipFill>
        <p:spPr>
          <a:xfrm>
            <a:off x="12600" y="0"/>
            <a:ext cx="918072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685440" y="685800"/>
            <a:ext cx="8001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6161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Заключитель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685800" y="137160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Торжественная презентация выставки «Кукла в национальной одежде народов Ямала» в уголке краеведения «Мы дети твои, Яма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Экскурсия в уголок краеведения «Мы-дети твои, Ямал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Посещение мини-музея «Кукла в национальной одежде народов Ямала» детьми: средней, старшей, подготовительной груп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Подведение итогов реализации проекта: презентация проекта «Кукла в национальной одежде народов Яма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247536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6" descr=""/>
          <p:cNvPicPr/>
          <p:nvPr/>
        </p:nvPicPr>
        <p:blipFill>
          <a:blip r:embed="rId2"/>
          <a:stretch/>
        </p:blipFill>
        <p:spPr>
          <a:xfrm>
            <a:off x="4067280" y="4062240"/>
            <a:ext cx="1741320" cy="217836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6" descr=""/>
          <p:cNvPicPr/>
          <p:nvPr/>
        </p:nvPicPr>
        <p:blipFill>
          <a:blip r:embed="rId3"/>
          <a:stretch/>
        </p:blipFill>
        <p:spPr>
          <a:xfrm>
            <a:off x="7199280" y="-58680"/>
            <a:ext cx="1741680" cy="217656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3" descr=""/>
          <p:cNvPicPr/>
          <p:nvPr/>
        </p:nvPicPr>
        <p:blipFill>
          <a:blip r:embed="rId4"/>
          <a:stretch/>
        </p:blipFill>
        <p:spPr>
          <a:xfrm>
            <a:off x="843120" y="3944880"/>
            <a:ext cx="2752560" cy="20383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5" descr=""/>
          <p:cNvPicPr/>
          <p:nvPr/>
        </p:nvPicPr>
        <p:blipFill>
          <a:blip r:embed="rId5"/>
          <a:stretch/>
        </p:blipFill>
        <p:spPr>
          <a:xfrm>
            <a:off x="5475240" y="3672000"/>
            <a:ext cx="2924280" cy="219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Объект 2" descr=""/>
          <p:cNvPicPr/>
          <p:nvPr/>
        </p:nvPicPr>
        <p:blipFill>
          <a:blip r:embed="rId1"/>
          <a:stretch/>
        </p:blipFill>
        <p:spPr>
          <a:xfrm>
            <a:off x="7920" y="0"/>
            <a:ext cx="9258480" cy="69152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-27000"/>
            <a:ext cx="838188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вивающая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предметно-пространственная среда</a:t>
            </a:r>
            <a:br>
              <a:rPr sz="28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познания»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63636"/>
                </a:solidFill>
                <a:latin typeface="Arial"/>
              </a:rPr>
              <a:t>Наглядно-дидактические пособия «Животные севера»,</a:t>
            </a:r>
            <a:br>
              <a:rPr sz="1600"/>
            </a:br>
            <a:r>
              <a:rPr b="0" lang="ru-RU" sz="1600" spc="-1" strike="noStrike">
                <a:solidFill>
                  <a:srgbClr val="363636"/>
                </a:solidFill>
                <a:latin typeface="Arial"/>
              </a:rPr>
              <a:t> предметные и сюжетные картинки: «Одежда народов Севера», д\игры : « Какие предметы нужны ненцу-рыбаку?», макет чума, макет-карта Ямала, макет -нарты </a:t>
            </a:r>
            <a:br>
              <a:rPr sz="1600"/>
            </a:br>
            <a:r>
              <a:rPr b="0" lang="ru-RU" sz="1600" spc="-1" strike="noStrike">
                <a:solidFill>
                  <a:srgbClr val="363636"/>
                </a:solidFill>
                <a:latin typeface="Arial"/>
              </a:rPr>
              <a:t>с оленьими упряжками, экспонаты- куклы в национальной одежде народов Ямала; игра-упражнение «Продолжи орнамент», «Найди и назови орнамент»</a:t>
            </a:r>
            <a:br>
              <a:rPr sz="1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безопасности»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Иллюстрации, изображающие опасные 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инструменты коренных жителей и опасные ситуации в тундре; д\и «Съедобные –несъедобные грибы (ягоды)»</a:t>
            </a:r>
            <a:br>
              <a:rPr sz="16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«Лаборатория»</a:t>
            </a: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оллекция  «Ткани и материал» -(кусочки меха, дерево, береста)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Опыт «Дышит ли рыба в воде?» </a:t>
            </a:r>
            <a:br>
              <a:rPr sz="1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природы»</a:t>
            </a: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Д\и: «Деревья тундры», «Растения Севера», 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«Кто живёт на крайнем Севере», «Один-много»;  Северный калейдоскоп 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«Времена года»; альбом «Животные Севера».</a:t>
            </a:r>
            <a:br>
              <a:rPr sz="1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Прямоугольник 3"/>
          <p:cNvSpPr/>
          <p:nvPr/>
        </p:nvSpPr>
        <p:spPr>
          <a:xfrm>
            <a:off x="762120" y="60948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2"/>
          <p:cNvSpPr/>
          <p:nvPr/>
        </p:nvSpPr>
        <p:spPr>
          <a:xfrm>
            <a:off x="2637000" y="3244680"/>
            <a:ext cx="207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6" descr=""/>
          <p:cNvPicPr/>
          <p:nvPr/>
        </p:nvPicPr>
        <p:blipFill>
          <a:blip r:embed="rId2"/>
          <a:stretch/>
        </p:blipFill>
        <p:spPr>
          <a:xfrm>
            <a:off x="6927840" y="451476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6" descr=""/>
          <p:cNvPicPr/>
          <p:nvPr/>
        </p:nvPicPr>
        <p:blipFill>
          <a:blip r:embed="rId3"/>
          <a:stretch/>
        </p:blipFill>
        <p:spPr>
          <a:xfrm>
            <a:off x="998640" y="4487760"/>
            <a:ext cx="1743120" cy="21765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"/>
          <p:cNvPicPr/>
          <p:nvPr/>
        </p:nvPicPr>
        <p:blipFill>
          <a:blip r:embed="rId4"/>
          <a:stretch/>
        </p:blipFill>
        <p:spPr>
          <a:xfrm>
            <a:off x="4114800" y="4460760"/>
            <a:ext cx="1741320" cy="217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7920" y="0"/>
            <a:ext cx="9258480" cy="69152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2200" y="-27000"/>
            <a:ext cx="83232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br>
              <a:rPr sz="3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конструирования»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макет чума, стойбища; дикие животные и их детёныши (оригами); фигурки людей ненцев.</a:t>
            </a:r>
            <a:br>
              <a:rPr sz="1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Центр социально-эмоционального развития»</a:t>
            </a: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Альбом «Эмоции коренных народов Ямала»;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иллюстрации с изображением: детей разного возраста и пола, их типичных занятий, игрушек; «сумочка-сундучок мастерицы»; иллюстрации, с изображением взрослых разного пола, и их 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основного занятия-рыболовство, охота, оленеводство, бисероплетение, шитьё одежды)</a:t>
            </a:r>
            <a:br>
              <a:rPr sz="1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патриотического воспитания»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выставка «Ямал-мой край родной»; книги о родном городе; иллюстрации к сказкам народов Ямала;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изделия народных промыслов; наглядно–дидактическое пособие: «Народы России» «Геральдика и государственные праздники»; пазлы с изображением герба, флага ЯНАО;  иллюстрированная детская книга о России .</a:t>
            </a:r>
            <a:br>
              <a:rPr sz="1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двигательной активности»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Атрибуты к подвижным играм: шапочки оленей, шапочка-солнышко, пастуха, канат (нетрадиционное оборудование), оленьи упряжки, альбом «Физкультурные минутки».</a:t>
            </a:r>
            <a:br>
              <a:rPr sz="1600"/>
            </a:b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762120" y="60948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2637000" y="3244680"/>
            <a:ext cx="207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Рисунок 6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741680" cy="217656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6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"/>
          <p:cNvPicPr/>
          <p:nvPr/>
        </p:nvPicPr>
        <p:blipFill>
          <a:blip r:embed="rId4"/>
          <a:stretch/>
        </p:blipFill>
        <p:spPr>
          <a:xfrm>
            <a:off x="3581280" y="4343400"/>
            <a:ext cx="1741680" cy="217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Объект 2" descr=""/>
          <p:cNvPicPr/>
          <p:nvPr/>
        </p:nvPicPr>
        <p:blipFill>
          <a:blip r:embed="rId1"/>
          <a:stretch/>
        </p:blipFill>
        <p:spPr>
          <a:xfrm>
            <a:off x="7920" y="0"/>
            <a:ext cx="9258480" cy="69152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игры»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уклы в национальной одежде народов Ямала; сюжетные игрушки, изображающие животных и их детенышей Севера;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многофункциональная ширма; ср\и «Чум»; атрибуты для разнообразных игр.</a:t>
            </a:r>
            <a:br>
              <a:rPr sz="1600"/>
            </a:br>
            <a:r>
              <a:rPr b="1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театра»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театр на фланелеграфе «Гордый карась» (ненец.сказка); театр резиновых игрушек «Ненецкая семья»; шапочки, атрибуты, костюмы: к театрализованным этюдам «Как дети не слушались маму», «Мама улетает» по нен.сказке «Кукушка»; </a:t>
            </a:r>
            <a:r>
              <a:rPr b="1" lang="ru-RU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режиссерские игры с макетом «В стойбище  оленеводов</a:t>
            </a: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остюмы, атрибуты к  театрализованной постановке «Северное счастье».</a:t>
            </a:r>
            <a:br>
              <a:rPr sz="1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музыки»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Слушание и разучивание песни «Снега-жемчуга»,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  слушание «Звуки северной природы», слушание фонограммы ненецких музыкальных инструментов (варган, бубен Шамана), ненецких колыбельных песен. Имитация движений «Ловля оленей», «Полёт куропатки», «Набрось аркан».</a:t>
            </a:r>
            <a:br>
              <a:rPr sz="1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книги»</a:t>
            </a: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А.Д. Иванова « Сказки народов Севера», М.Д. Карунный «Дымок над чумом», Н. Ф. Дудников «Медвежьи забавы», А.Я Спиридонов «Матти весельчак», Н. В. Серебрянникова, С.Н. Вааль. Сборник стихов и рассказов « Мой дом у Полярного круга», С. И. Власова «Азбука Ямала».</a:t>
            </a:r>
            <a:br>
              <a:rPr sz="1600"/>
            </a:br>
            <a:r>
              <a:rPr b="1" lang="ru-RU" sz="2000" spc="-1" strike="noStrike">
                <a:solidFill>
                  <a:srgbClr val="161616"/>
                </a:solidFill>
                <a:latin typeface="Arial"/>
              </a:rPr>
              <a:t>«Центр творчества» </a:t>
            </a: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раскраски: «Малица», «Ягушка», «Животные севера»; игра «Орнамент народов ханты» (выкладывание орнамента на пластилиновой основе из овса, перловки, гречки, риса);  игра  «Укрась малицу» (вышивание орнамента), «Выложи орнамент из бусин (пуговиц)», «Составь и наклей орнамент»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762120" y="60948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2637000" y="3244680"/>
            <a:ext cx="207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Рисунок 6" descr=""/>
          <p:cNvPicPr/>
          <p:nvPr/>
        </p:nvPicPr>
        <p:blipFill>
          <a:blip r:embed="rId2"/>
          <a:stretch/>
        </p:blipFill>
        <p:spPr>
          <a:xfrm>
            <a:off x="7400880" y="5113440"/>
            <a:ext cx="1579680" cy="197316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6" descr=""/>
          <p:cNvPicPr/>
          <p:nvPr/>
        </p:nvPicPr>
        <p:blipFill>
          <a:blip r:embed="rId3"/>
          <a:stretch/>
        </p:blipFill>
        <p:spPr>
          <a:xfrm>
            <a:off x="858960" y="4967280"/>
            <a:ext cx="1741320" cy="217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Объект 2" descr=""/>
          <p:cNvPicPr/>
          <p:nvPr/>
        </p:nvPicPr>
        <p:blipFill>
          <a:blip r:embed="rId1"/>
          <a:stretch/>
        </p:blipFill>
        <p:spPr>
          <a:xfrm>
            <a:off x="-19080" y="0"/>
            <a:ext cx="9258480" cy="69152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Прямоугольник 3"/>
          <p:cNvSpPr/>
          <p:nvPr/>
        </p:nvSpPr>
        <p:spPr>
          <a:xfrm>
            <a:off x="762120" y="60948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533520" y="609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расширили и обогатили знания о родном крае, его истории и традициях, истории национальной одежды коренных народов Ям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знают, какая национальная одежда существует у ненцев, ханты, селькупов, могут показать на экспонатах-куклах мини-музея детали национальных костюмов и отличительные знаки представителей разных коренных народов Ямала (ненцев, селькупов, ханты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результате совместной деятельности родителей и детей стали крепче семейные связи, достигнуто взаимопонимание между всеми участниками образовательного процес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и этом становится содержательно- насыщенной развивающая предметно-пространственная среда группы и детского сада. Мини-музей одежды национального костюма коренных народов Ямала - «Кукла в национальной одежде народов Ямала», посвященный  «Празднику народов Севера», — яркое тому подтверждение.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6" descr=""/>
          <p:cNvPicPr/>
          <p:nvPr/>
        </p:nvPicPr>
        <p:blipFill>
          <a:blip r:embed="rId2"/>
          <a:stretch/>
        </p:blipFill>
        <p:spPr>
          <a:xfrm>
            <a:off x="7021440" y="4429080"/>
            <a:ext cx="1741680" cy="21765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6" descr=""/>
          <p:cNvPicPr/>
          <p:nvPr/>
        </p:nvPicPr>
        <p:blipFill>
          <a:blip r:embed="rId3"/>
          <a:stretch/>
        </p:blipFill>
        <p:spPr>
          <a:xfrm>
            <a:off x="762120" y="442908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6" descr=""/>
          <p:cNvPicPr/>
          <p:nvPr/>
        </p:nvPicPr>
        <p:blipFill>
          <a:blip r:embed="rId4"/>
          <a:stretch/>
        </p:blipFill>
        <p:spPr>
          <a:xfrm>
            <a:off x="3890880" y="4429080"/>
            <a:ext cx="1741680" cy="217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Объект 2" descr=""/>
          <p:cNvPicPr/>
          <p:nvPr/>
        </p:nvPicPr>
        <p:blipFill>
          <a:blip r:embed="rId1"/>
          <a:stretch/>
        </p:blipFill>
        <p:spPr>
          <a:xfrm>
            <a:off x="0" y="3240"/>
            <a:ext cx="9258480" cy="69152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ованная литератур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Прямоугольник 3"/>
          <p:cNvSpPr/>
          <p:nvPr/>
        </p:nvSpPr>
        <p:spPr>
          <a:xfrm>
            <a:off x="762120" y="60948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749160" y="628200"/>
            <a:ext cx="762012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Л.Б.Хомич «Ненцы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М.С.Приходько «ХОМАКУ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В.Д. Голубчикова, Л.В. Яковкина, И.В. Бодрова «Арктика-мой дом. Народы Севера земли. Полярная энциклопедия школьник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Журнал «Северяне» №2, 2005г. Статья Р. Ругин «Олень и солнц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Журнал «Северяне» №2, 2005г. Фотоматериал «Оленья упряжка», «Образы земли Ямальской. №1, 2007г. «Хантыйская семь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Сборник песен «Северный калейдоскоп» Ю. Юнке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6161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Сборник «Детские подвижные игры народов Севера» Ю. Юнке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Arial Unicode MS"/>
              </a:rPr>
              <a:t>Шорыгина Т.А.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Arial Unicode MS"/>
              </a:rPr>
              <a:t>Беседы о русском Севере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Arial Unicode MS"/>
              </a:rPr>
              <a:t>. Методические рекомендации М.: ТЦ Сфера,   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Arial Unicode MS"/>
              </a:rPr>
              <a:t>Журавель Н. М. Краеведение Ямало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–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Arial Unicode MS"/>
              </a:rPr>
              <a:t> Ненецкого автономного округа., Новый Уренгой: ЗАО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Arial Unicode MS"/>
              </a:rPr>
              <a:t>Центр принт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 Unicode MS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Arial Unicode MS"/>
              </a:rPr>
              <a:t>, 200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Рисунок 6" descr=""/>
          <p:cNvPicPr/>
          <p:nvPr/>
        </p:nvPicPr>
        <p:blipFill>
          <a:blip r:embed="rId2"/>
          <a:stretch/>
        </p:blipFill>
        <p:spPr>
          <a:xfrm>
            <a:off x="6945480" y="4299120"/>
            <a:ext cx="1741320" cy="21762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6" descr=""/>
          <p:cNvPicPr/>
          <p:nvPr/>
        </p:nvPicPr>
        <p:blipFill>
          <a:blip r:embed="rId3"/>
          <a:stretch/>
        </p:blipFill>
        <p:spPr>
          <a:xfrm>
            <a:off x="449280" y="435132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6" descr=""/>
          <p:cNvPicPr/>
          <p:nvPr/>
        </p:nvPicPr>
        <p:blipFill>
          <a:blip r:embed="rId4"/>
          <a:stretch/>
        </p:blipFill>
        <p:spPr>
          <a:xfrm>
            <a:off x="3757680" y="4376880"/>
            <a:ext cx="1741320" cy="2176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60912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Серия: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Сказки Евражки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. Для дошкольного возраста. Ненецкие сказки. Литературная обработка Меновщикова Г.А., Васильева В.И. Издательство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Малыш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, 199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Хрестоматия для детей старшего дошкольного возраста. Сост. Жуковская Р.Н. и  Пеньковская Л.А. .  М.,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Просвещение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, 197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Детские подвижные игры народов Севера. Сост. А.В.Кенеман., М.,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Просвещение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, 198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Шесталов Ю. , Сначала была сказка. Повесть, стихи, сказки, загадки, песни. Ленинград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Детская литература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. 198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Ямал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 наш дом, один на всех. 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Тинейджер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. Детская газета в газете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Правда Севера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, март 200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Борко Т.И., Галкин В.Т. Культура народов Ям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Богун П.Н. Национальные и народные игры ненцев Тазовского района.              Учебное пособие. Салехард 199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Прокопенко В.В., Красильников В.П., Прокопенко В.В. Традиционные           средства физического воспитания сургутских ха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6161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Соловар В.Н., Моронко С.Д. Хантыйские народные загадки. Ханты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 Мансийск, изд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 во 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Н.И.К.</a:t>
            </a: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Calibri"/>
              </a:rPr>
              <a:t> 199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6" descr=""/>
          <p:cNvPicPr/>
          <p:nvPr/>
        </p:nvPicPr>
        <p:blipFill>
          <a:blip r:embed="rId2"/>
          <a:stretch/>
        </p:blipFill>
        <p:spPr>
          <a:xfrm>
            <a:off x="7257960" y="4572000"/>
            <a:ext cx="1627200" cy="20336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6" descr=""/>
          <p:cNvPicPr/>
          <p:nvPr/>
        </p:nvPicPr>
        <p:blipFill>
          <a:blip r:embed="rId3"/>
          <a:stretch/>
        </p:blipFill>
        <p:spPr>
          <a:xfrm>
            <a:off x="4227480" y="4800600"/>
            <a:ext cx="1444680" cy="180504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6" descr=""/>
          <p:cNvPicPr/>
          <p:nvPr/>
        </p:nvPicPr>
        <p:blipFill>
          <a:blip r:embed="rId4"/>
          <a:stretch/>
        </p:blipFill>
        <p:spPr>
          <a:xfrm>
            <a:off x="609480" y="5029200"/>
            <a:ext cx="1290600" cy="1612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"/>
          <p:cNvPicPr/>
          <p:nvPr/>
        </p:nvPicPr>
        <p:blipFill>
          <a:blip r:embed="rId1"/>
          <a:stretch/>
        </p:blipFill>
        <p:spPr>
          <a:xfrm>
            <a:off x="-100080" y="0"/>
            <a:ext cx="9306000" cy="692136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8" descr=""/>
          <p:cNvPicPr/>
          <p:nvPr/>
        </p:nvPicPr>
        <p:blipFill>
          <a:blip r:embed="rId2"/>
          <a:stretch/>
        </p:blipFill>
        <p:spPr>
          <a:xfrm>
            <a:off x="5070600" y="1363680"/>
            <a:ext cx="257148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1" descr=""/>
          <p:cNvPicPr/>
          <p:nvPr/>
        </p:nvPicPr>
        <p:blipFill>
          <a:blip r:embed="rId3"/>
          <a:stretch/>
        </p:blipFill>
        <p:spPr>
          <a:xfrm>
            <a:off x="577800" y="630360"/>
            <a:ext cx="1309680" cy="23446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13" descr=""/>
          <p:cNvPicPr/>
          <p:nvPr/>
        </p:nvPicPr>
        <p:blipFill>
          <a:blip r:embed="rId4"/>
          <a:stretch/>
        </p:blipFill>
        <p:spPr>
          <a:xfrm>
            <a:off x="3273480" y="2254320"/>
            <a:ext cx="2560680" cy="15955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6" descr=""/>
          <p:cNvPicPr/>
          <p:nvPr/>
        </p:nvPicPr>
        <p:blipFill>
          <a:blip r:embed="rId5"/>
          <a:stretch/>
        </p:blipFill>
        <p:spPr>
          <a:xfrm>
            <a:off x="393840" y="2338560"/>
            <a:ext cx="1741320" cy="21762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"/>
          <p:cNvPicPr/>
          <p:nvPr/>
        </p:nvPicPr>
        <p:blipFill>
          <a:blip r:embed="rId6"/>
          <a:stretch/>
        </p:blipFill>
        <p:spPr>
          <a:xfrm>
            <a:off x="7186680" y="252720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6" descr=""/>
          <p:cNvPicPr/>
          <p:nvPr/>
        </p:nvPicPr>
        <p:blipFill>
          <a:blip r:embed="rId7"/>
          <a:stretch/>
        </p:blipFill>
        <p:spPr>
          <a:xfrm>
            <a:off x="3718080" y="461160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"/>
          <p:cNvPicPr/>
          <p:nvPr/>
        </p:nvPicPr>
        <p:blipFill>
          <a:blip r:embed="rId8"/>
          <a:stretch/>
        </p:blipFill>
        <p:spPr>
          <a:xfrm>
            <a:off x="3321000" y="3887640"/>
            <a:ext cx="2495520" cy="14097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3" descr=""/>
          <p:cNvPicPr/>
          <p:nvPr/>
        </p:nvPicPr>
        <p:blipFill>
          <a:blip r:embed="rId9"/>
          <a:stretch/>
        </p:blipFill>
        <p:spPr>
          <a:xfrm>
            <a:off x="6261120" y="4896000"/>
            <a:ext cx="1962000" cy="131436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4" descr=""/>
          <p:cNvPicPr/>
          <p:nvPr/>
        </p:nvPicPr>
        <p:blipFill>
          <a:blip r:embed="rId10"/>
          <a:stretch/>
        </p:blipFill>
        <p:spPr>
          <a:xfrm>
            <a:off x="5977080" y="30621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5" descr=""/>
          <p:cNvPicPr/>
          <p:nvPr/>
        </p:nvPicPr>
        <p:blipFill>
          <a:blip r:embed="rId11"/>
          <a:stretch/>
        </p:blipFill>
        <p:spPr>
          <a:xfrm>
            <a:off x="7095960" y="917640"/>
            <a:ext cx="1454400" cy="19479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6" descr=""/>
          <p:cNvPicPr/>
          <p:nvPr/>
        </p:nvPicPr>
        <p:blipFill>
          <a:blip r:embed="rId12"/>
          <a:stretch/>
        </p:blipFill>
        <p:spPr>
          <a:xfrm>
            <a:off x="563400" y="4157640"/>
            <a:ext cx="1200240" cy="2143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"/>
          <p:cNvPicPr/>
          <p:nvPr/>
        </p:nvPicPr>
        <p:blipFill>
          <a:blip r:embed="rId13"/>
          <a:stretch/>
        </p:blipFill>
        <p:spPr>
          <a:xfrm>
            <a:off x="4511520" y="85896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8" descr=""/>
          <p:cNvPicPr/>
          <p:nvPr/>
        </p:nvPicPr>
        <p:blipFill>
          <a:blip r:embed="rId14"/>
          <a:stretch/>
        </p:blipFill>
        <p:spPr>
          <a:xfrm>
            <a:off x="2536920" y="631800"/>
            <a:ext cx="2305080" cy="16192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0" descr=""/>
          <p:cNvPicPr/>
          <p:nvPr/>
        </p:nvPicPr>
        <p:blipFill>
          <a:blip r:embed="rId15"/>
          <a:stretch/>
        </p:blipFill>
        <p:spPr>
          <a:xfrm>
            <a:off x="1906560" y="3024360"/>
            <a:ext cx="1257480" cy="298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мал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нецкий Автономный Округ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8" name="Рисунок 4" descr=""/>
          <p:cNvPicPr/>
          <p:nvPr/>
        </p:nvPicPr>
        <p:blipFill>
          <a:blip r:embed="rId2"/>
          <a:stretch/>
        </p:blipFill>
        <p:spPr>
          <a:xfrm>
            <a:off x="762120" y="1460520"/>
            <a:ext cx="7235640" cy="50576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5" descr=""/>
          <p:cNvPicPr/>
          <p:nvPr/>
        </p:nvPicPr>
        <p:blipFill>
          <a:blip r:embed="rId3"/>
          <a:stretch/>
        </p:blipFill>
        <p:spPr>
          <a:xfrm>
            <a:off x="6477120" y="1152360"/>
            <a:ext cx="1904760" cy="25815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" descr=""/>
          <p:cNvPicPr/>
          <p:nvPr/>
        </p:nvPicPr>
        <p:blipFill>
          <a:blip r:embed="rId4"/>
          <a:stretch/>
        </p:blipFill>
        <p:spPr>
          <a:xfrm>
            <a:off x="687240" y="1155600"/>
            <a:ext cx="1922760" cy="134316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6" descr=""/>
          <p:cNvPicPr/>
          <p:nvPr/>
        </p:nvPicPr>
        <p:blipFill>
          <a:blip r:embed="rId5"/>
          <a:stretch/>
        </p:blipFill>
        <p:spPr>
          <a:xfrm>
            <a:off x="457200" y="440532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7" descr=""/>
          <p:cNvPicPr/>
          <p:nvPr/>
        </p:nvPicPr>
        <p:blipFill>
          <a:blip r:embed="rId6"/>
          <a:stretch/>
        </p:blipFill>
        <p:spPr>
          <a:xfrm>
            <a:off x="7045200" y="294804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1" descr=""/>
          <p:cNvPicPr/>
          <p:nvPr/>
        </p:nvPicPr>
        <p:blipFill>
          <a:blip r:embed="rId1"/>
          <a:stretch/>
        </p:blipFill>
        <p:spPr>
          <a:xfrm>
            <a:off x="-65160" y="0"/>
            <a:ext cx="9307440" cy="6921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"/>
          <p:cNvPicPr/>
          <p:nvPr/>
        </p:nvPicPr>
        <p:blipFill>
          <a:blip r:embed="rId2"/>
          <a:stretch/>
        </p:blipFill>
        <p:spPr>
          <a:xfrm>
            <a:off x="7253280" y="141120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6" descr=""/>
          <p:cNvPicPr/>
          <p:nvPr/>
        </p:nvPicPr>
        <p:blipFill>
          <a:blip r:embed="rId3"/>
          <a:stretch/>
        </p:blipFill>
        <p:spPr>
          <a:xfrm>
            <a:off x="2479680" y="4179960"/>
            <a:ext cx="1741320" cy="21765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1" descr=""/>
          <p:cNvPicPr/>
          <p:nvPr/>
        </p:nvPicPr>
        <p:blipFill>
          <a:blip r:embed="rId4"/>
          <a:stretch/>
        </p:blipFill>
        <p:spPr>
          <a:xfrm>
            <a:off x="647640" y="5048280"/>
            <a:ext cx="1706760" cy="128124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"/>
          <p:cNvPicPr/>
          <p:nvPr/>
        </p:nvPicPr>
        <p:blipFill>
          <a:blip r:embed="rId5"/>
          <a:stretch/>
        </p:blipFill>
        <p:spPr>
          <a:xfrm>
            <a:off x="4875120" y="701640"/>
            <a:ext cx="1795680" cy="13446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"/>
          <p:cNvPicPr/>
          <p:nvPr/>
        </p:nvPicPr>
        <p:blipFill>
          <a:blip r:embed="rId6"/>
          <a:stretch/>
        </p:blipFill>
        <p:spPr>
          <a:xfrm>
            <a:off x="647640" y="671400"/>
            <a:ext cx="1514520" cy="17701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6" descr=""/>
          <p:cNvPicPr/>
          <p:nvPr/>
        </p:nvPicPr>
        <p:blipFill>
          <a:blip r:embed="rId7"/>
          <a:stretch/>
        </p:blipFill>
        <p:spPr>
          <a:xfrm>
            <a:off x="5551560" y="1879560"/>
            <a:ext cx="1787400" cy="13464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7" descr=""/>
          <p:cNvPicPr/>
          <p:nvPr/>
        </p:nvPicPr>
        <p:blipFill>
          <a:blip r:embed="rId8"/>
          <a:stretch/>
        </p:blipFill>
        <p:spPr>
          <a:xfrm>
            <a:off x="6537240" y="3606840"/>
            <a:ext cx="1836720" cy="13809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8" descr=""/>
          <p:cNvPicPr/>
          <p:nvPr/>
        </p:nvPicPr>
        <p:blipFill>
          <a:blip r:embed="rId9"/>
          <a:stretch/>
        </p:blipFill>
        <p:spPr>
          <a:xfrm>
            <a:off x="2833560" y="2951280"/>
            <a:ext cx="2602080" cy="112860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1" descr=""/>
          <p:cNvPicPr/>
          <p:nvPr/>
        </p:nvPicPr>
        <p:blipFill>
          <a:blip r:embed="rId10"/>
          <a:stretch/>
        </p:blipFill>
        <p:spPr>
          <a:xfrm>
            <a:off x="4011480" y="4264200"/>
            <a:ext cx="2170080" cy="163656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3" descr=""/>
          <p:cNvPicPr/>
          <p:nvPr/>
        </p:nvPicPr>
        <p:blipFill>
          <a:blip r:embed="rId11"/>
          <a:stretch/>
        </p:blipFill>
        <p:spPr>
          <a:xfrm>
            <a:off x="681120" y="2862360"/>
            <a:ext cx="1654200" cy="19159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4" descr=""/>
          <p:cNvPicPr/>
          <p:nvPr/>
        </p:nvPicPr>
        <p:blipFill>
          <a:blip r:embed="rId12"/>
          <a:stretch/>
        </p:blipFill>
        <p:spPr>
          <a:xfrm>
            <a:off x="6642000" y="4778280"/>
            <a:ext cx="1627200" cy="12207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5" descr=""/>
          <p:cNvPicPr/>
          <p:nvPr/>
        </p:nvPicPr>
        <p:blipFill>
          <a:blip r:embed="rId13"/>
          <a:stretch/>
        </p:blipFill>
        <p:spPr>
          <a:xfrm>
            <a:off x="6907320" y="477720"/>
            <a:ext cx="1579320" cy="13334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6" descr=""/>
          <p:cNvPicPr/>
          <p:nvPr/>
        </p:nvPicPr>
        <p:blipFill>
          <a:blip r:embed="rId14"/>
          <a:stretch/>
        </p:blipFill>
        <p:spPr>
          <a:xfrm>
            <a:off x="2886120" y="558720"/>
            <a:ext cx="1779480" cy="1185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7" descr=""/>
          <p:cNvPicPr/>
          <p:nvPr/>
        </p:nvPicPr>
        <p:blipFill>
          <a:blip r:embed="rId15"/>
          <a:stretch/>
        </p:blipFill>
        <p:spPr>
          <a:xfrm>
            <a:off x="2503440" y="1397160"/>
            <a:ext cx="1744560" cy="123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35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Улыбающееся лицо 1"/>
          <p:cNvSpPr/>
          <p:nvPr/>
        </p:nvSpPr>
        <p:spPr>
          <a:xfrm>
            <a:off x="3048120" y="2895480"/>
            <a:ext cx="2590560" cy="2514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1" descr=""/>
          <p:cNvPicPr/>
          <p:nvPr/>
        </p:nvPicPr>
        <p:blipFill>
          <a:blip r:embed="rId1"/>
          <a:stretch/>
        </p:blipFill>
        <p:spPr>
          <a:xfrm>
            <a:off x="0" y="-34920"/>
            <a:ext cx="9177480" cy="69595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441360"/>
            <a:ext cx="8229600" cy="173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лагополучно живущий человек –тот, у кого есть хорошая одежда…</a:t>
            </a:r>
            <a:br>
              <a:rPr sz="1400"/>
            </a:br>
            <a:r>
              <a:rPr b="0" lang="ru-RU" sz="2800" spc="-1" strike="noStrike">
                <a:solidFill>
                  <a:srgbClr val="001d2e"/>
                </a:solidFill>
                <a:latin typeface="Arial"/>
              </a:rPr>
              <a:t>Знакомство детей с традициями, бытом, национальной одеждой народов Ямала, через познавательную, творческую проектную деятельность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Рисунок 2" descr=""/>
          <p:cNvPicPr/>
          <p:nvPr/>
        </p:nvPicPr>
        <p:blipFill>
          <a:blip r:embed="rId2"/>
          <a:stretch/>
        </p:blipFill>
        <p:spPr>
          <a:xfrm>
            <a:off x="703440" y="87948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"/>
          <p:cNvPicPr/>
          <p:nvPr/>
        </p:nvPicPr>
        <p:blipFill>
          <a:blip r:embed="rId3"/>
          <a:stretch/>
        </p:blipFill>
        <p:spPr>
          <a:xfrm>
            <a:off x="457200" y="-13824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" descr=""/>
          <p:cNvPicPr/>
          <p:nvPr/>
        </p:nvPicPr>
        <p:blipFill>
          <a:blip r:embed="rId4"/>
          <a:stretch/>
        </p:blipFill>
        <p:spPr>
          <a:xfrm>
            <a:off x="1052640" y="3930480"/>
            <a:ext cx="3514680" cy="232416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2" descr=""/>
          <p:cNvPicPr/>
          <p:nvPr/>
        </p:nvPicPr>
        <p:blipFill>
          <a:blip r:embed="rId5"/>
          <a:stretch/>
        </p:blipFill>
        <p:spPr>
          <a:xfrm>
            <a:off x="4952880" y="4340160"/>
            <a:ext cx="3276720" cy="1924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1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ктуальность темы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14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дной из основных задач воспитания дошкольников является воспитание любви к Родине, родному краю, чувство гордости за свою Родину.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Это ТВОЯ малая Родина» – говорим мы детям, когда знакомим с родным краем. 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ЯМАЛ – это наша малая Родина - северная земля, которая хранит в себе несметные природные богатства и богатства традиций коренных народов Ямала.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К коренным народам Ямала относятся: ненцы, ханты, манси, селькупы. Каждый народ заявляет о себе через свою культуру. Приобщение детей к родному краю, к национальной культуре коренных народов Ямала, является сегодня актуальной темой для изучения. 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етям обязательно нужно знать историю своего родного северного края, культуру, 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традиции и быт коренных народов Ямала, чтобы чувствовать себя его частью, </a:t>
            </a:r>
            <a:br>
              <a:rPr sz="1600"/>
            </a:b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щущать гордость за свой край.</a:t>
            </a:r>
            <a:br>
              <a:rPr sz="1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1" name="Рисунок 3" descr=""/>
          <p:cNvPicPr/>
          <p:nvPr/>
        </p:nvPicPr>
        <p:blipFill>
          <a:blip r:embed="rId2"/>
          <a:stretch/>
        </p:blipFill>
        <p:spPr>
          <a:xfrm>
            <a:off x="561960" y="-6192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4" descr=""/>
          <p:cNvPicPr/>
          <p:nvPr/>
        </p:nvPicPr>
        <p:blipFill>
          <a:blip r:embed="rId3"/>
          <a:stretch/>
        </p:blipFill>
        <p:spPr>
          <a:xfrm>
            <a:off x="7159680" y="41148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1"/>
          <p:cNvSpPr/>
          <p:nvPr/>
        </p:nvSpPr>
        <p:spPr>
          <a:xfrm>
            <a:off x="588960" y="4275000"/>
            <a:ext cx="7086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следить культуру народов Ямала, их образ жизни, помочь познать некоторые национальные обряды, мы можем</a:t>
            </a:r>
            <a:r>
              <a:rPr b="0" i="1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оступным способом - через игру, а точнее, через куклу в национальной одежде народов Ямала. Бесценность работы с куклой понять не труд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 играх с куклами дети учатся общаться, фантазировать, творить, проявлять милосердие. Кукла-зримый посредник между миром детства и миром взрослых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24680" cy="228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      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жидаемы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:</a:t>
            </a:r>
            <a:br>
              <a:rPr sz="36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.У детей сформированы знания об истории родного северного края, об образе жизни, традициях, культуре и истории национальной одежды коренных народов Ямала.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Обогащена развивающая предметно-пространственная среда: дидактическими играми, атрибутами, пособиями, альбомами, буклетами, экспонатами-куклами в национальной одежде коренных народов Ямала, способствующая использовать продукт своей деятельности в игре. 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. Подготовлен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езентация проекта «Куклы в национальной одежде народов Ямала».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4. Подготовлен фотоальбом ««Куклы в национальной одежде народов Ямала».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5. Повышение мотивации к сотрудничеству родителей с детским садом через мероприятия: изготовления пособий, макетов, игр, экспонатов-куклы в национальной одежде коренных народов Ямала.</a:t>
            </a:r>
            <a:br>
              <a:rPr sz="2000"/>
            </a:br>
            <a:br>
              <a:rPr sz="36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6" name="Рисунок 4" descr=""/>
          <p:cNvPicPr/>
          <p:nvPr/>
        </p:nvPicPr>
        <p:blipFill>
          <a:blip r:embed="rId2"/>
          <a:stretch/>
        </p:blipFill>
        <p:spPr>
          <a:xfrm>
            <a:off x="6934320" y="446724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д проект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 тематике: </a:t>
            </a: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знавательный, творческий.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 составу участников: </a:t>
            </a: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ети подготовительной группы, воспитатели, родители.</a:t>
            </a:r>
            <a:br>
              <a:rPr sz="2400"/>
            </a:b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 срокам реализации: </a:t>
            </a: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редней продолжительности</a:t>
            </a: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октябрь 2016г-март 2016г)</a:t>
            </a:r>
            <a:br>
              <a:rPr sz="2400"/>
            </a:br>
            <a:br>
              <a:rPr sz="2400"/>
            </a:b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9" name="Рисунок 4" descr=""/>
          <p:cNvPicPr/>
          <p:nvPr/>
        </p:nvPicPr>
        <p:blipFill>
          <a:blip r:embed="rId2"/>
          <a:stretch/>
        </p:blipFill>
        <p:spPr>
          <a:xfrm>
            <a:off x="6477120" y="410364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"/>
          <p:cNvPicPr/>
          <p:nvPr/>
        </p:nvPicPr>
        <p:blipFill>
          <a:blip r:embed="rId3"/>
          <a:stretch/>
        </p:blipFill>
        <p:spPr>
          <a:xfrm>
            <a:off x="3809880" y="342900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"/>
          <p:cNvPicPr/>
          <p:nvPr/>
        </p:nvPicPr>
        <p:blipFill>
          <a:blip r:embed="rId4"/>
          <a:stretch/>
        </p:blipFill>
        <p:spPr>
          <a:xfrm>
            <a:off x="1042920" y="410364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3" descr=""/>
          <p:cNvPicPr/>
          <p:nvPr/>
        </p:nvPicPr>
        <p:blipFill>
          <a:blip r:embed="rId5"/>
          <a:stretch/>
        </p:blipFill>
        <p:spPr>
          <a:xfrm>
            <a:off x="762120" y="14400"/>
            <a:ext cx="1904760" cy="2381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1800" y="157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571680" indent="-571680" algn="ctr"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ель:</a:t>
            </a:r>
            <a:br>
              <a:rPr sz="4000"/>
            </a:b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1. Повысить  качество работы</a:t>
            </a:r>
            <a:br>
              <a:rPr sz="1800"/>
            </a:b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по патриотическому воспитанию дошкольников, посредством обогащения развивающей предметно-пространственной среды детского сада.</a:t>
            </a:r>
            <a:br>
              <a:rPr sz="1800"/>
            </a:b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Сформировать у детей старшего дошкольного возраста интереса к истории родного северного края, к образу жизни, традициях, культуре и одежде коренных народов Ямала, через образ куклы в национальной одежде коренных народов Ямала.</a:t>
            </a:r>
            <a:br>
              <a:rPr sz="1800"/>
            </a:b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.Создать условия для тесного взаимодействия между всеми участниками образовательного процесса </a:t>
            </a:r>
            <a:br>
              <a:rPr sz="1800"/>
            </a:b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в системах «родители –педагоги»,  </a:t>
            </a:r>
            <a:br>
              <a:rPr sz="1800"/>
            </a:b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«родители-педагоги-дети»)</a:t>
            </a:r>
            <a:br>
              <a:rPr sz="18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5" name="Рисунок 6" descr=""/>
          <p:cNvPicPr/>
          <p:nvPr/>
        </p:nvPicPr>
        <p:blipFill>
          <a:blip r:embed="rId2"/>
          <a:stretch/>
        </p:blipFill>
        <p:spPr>
          <a:xfrm>
            <a:off x="533520" y="-22860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" descr=""/>
          <p:cNvPicPr/>
          <p:nvPr/>
        </p:nvPicPr>
        <p:blipFill>
          <a:blip r:embed="rId3"/>
          <a:stretch/>
        </p:blipFill>
        <p:spPr>
          <a:xfrm>
            <a:off x="3368520" y="4343400"/>
            <a:ext cx="2457720" cy="171468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" descr=""/>
          <p:cNvPicPr/>
          <p:nvPr/>
        </p:nvPicPr>
        <p:blipFill>
          <a:blip r:embed="rId4"/>
          <a:stretch/>
        </p:blipFill>
        <p:spPr>
          <a:xfrm>
            <a:off x="1063800" y="3722760"/>
            <a:ext cx="1600200" cy="24192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3" descr=""/>
          <p:cNvPicPr/>
          <p:nvPr/>
        </p:nvPicPr>
        <p:blipFill>
          <a:blip r:embed="rId5"/>
          <a:stretch/>
        </p:blipFill>
        <p:spPr>
          <a:xfrm>
            <a:off x="6576840" y="3637080"/>
            <a:ext cx="1543320" cy="2590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3"/>
          <p:cNvSpPr/>
          <p:nvPr/>
        </p:nvSpPr>
        <p:spPr>
          <a:xfrm>
            <a:off x="3657600" y="6094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09480" y="1143000"/>
            <a:ext cx="8001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.Изучить литературу по исследуемой те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 Расширять и обогащать знания детей о родном крае, его истории,  о традициях, о культуре и истории национальной одежды коренных народов Ям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.Познакомить родителей с историей, традициями, бытом и одеждой коренных народов Ямала, посредством изучения соответствующей литературы, презентаций, фотоальбомов, альбомов-открыток, иллюстрац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4.Привлечь родителей к активному  сотрудничеству с детским са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5.Оформить фотоальбом «Кукла в национальной одежде народов Яма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6.Создать в детском саду мини-музей «Кукла в национальной одежде Яма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Рисунок 5" descr=""/>
          <p:cNvPicPr/>
          <p:nvPr/>
        </p:nvPicPr>
        <p:blipFill>
          <a:blip r:embed="rId2"/>
          <a:stretch/>
        </p:blipFill>
        <p:spPr>
          <a:xfrm>
            <a:off x="6972480" y="-314280"/>
            <a:ext cx="1904760" cy="23810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"/>
          <p:cNvPicPr/>
          <p:nvPr/>
        </p:nvPicPr>
        <p:blipFill>
          <a:blip r:embed="rId3"/>
          <a:stretch/>
        </p:blipFill>
        <p:spPr>
          <a:xfrm>
            <a:off x="609480" y="3813120"/>
            <a:ext cx="1741680" cy="21765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" descr=""/>
          <p:cNvPicPr/>
          <p:nvPr/>
        </p:nvPicPr>
        <p:blipFill>
          <a:blip r:embed="rId4"/>
          <a:stretch/>
        </p:blipFill>
        <p:spPr>
          <a:xfrm>
            <a:off x="6202440" y="408456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"/>
          <p:cNvPicPr/>
          <p:nvPr/>
        </p:nvPicPr>
        <p:blipFill>
          <a:blip r:embed="rId5"/>
          <a:stretch/>
        </p:blipFill>
        <p:spPr>
          <a:xfrm>
            <a:off x="2397240" y="3932280"/>
            <a:ext cx="1904760" cy="23810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" descr=""/>
          <p:cNvPicPr/>
          <p:nvPr/>
        </p:nvPicPr>
        <p:blipFill>
          <a:blip r:embed="rId6"/>
          <a:stretch/>
        </p:blipFill>
        <p:spPr>
          <a:xfrm>
            <a:off x="4346640" y="3343320"/>
            <a:ext cx="1904760" cy="2381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Объект 2" descr=""/>
          <p:cNvPicPr/>
          <p:nvPr/>
        </p:nvPicPr>
        <p:blipFill>
          <a:blip r:embed="rId1"/>
          <a:stretch/>
        </p:blipFill>
        <p:spPr>
          <a:xfrm>
            <a:off x="-69840" y="-85680"/>
            <a:ext cx="9258120" cy="6915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-457200"/>
            <a:ext cx="8305560" cy="440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тапы проекта</a:t>
            </a:r>
            <a:br>
              <a:rPr sz="3600"/>
            </a:b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Подготовительный этап</a:t>
            </a: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Сбор информации, работа с методической литературой, обсуждение проекта, анкетирование родителей, составление плана работы над проекто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62120" y="60948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Рисунок 3" descr=""/>
          <p:cNvPicPr/>
          <p:nvPr/>
        </p:nvPicPr>
        <p:blipFill>
          <a:blip r:embed="rId2"/>
          <a:stretch/>
        </p:blipFill>
        <p:spPr>
          <a:xfrm>
            <a:off x="7108920" y="-176040"/>
            <a:ext cx="1904760" cy="23810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3" descr=""/>
          <p:cNvPicPr/>
          <p:nvPr/>
        </p:nvPicPr>
        <p:blipFill>
          <a:blip r:embed="rId3"/>
          <a:stretch/>
        </p:blipFill>
        <p:spPr>
          <a:xfrm>
            <a:off x="770040" y="397188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" descr=""/>
          <p:cNvPicPr/>
          <p:nvPr/>
        </p:nvPicPr>
        <p:blipFill>
          <a:blip r:embed="rId4"/>
          <a:stretch/>
        </p:blipFill>
        <p:spPr>
          <a:xfrm>
            <a:off x="770040" y="2505240"/>
            <a:ext cx="2247840" cy="1676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" descr=""/>
          <p:cNvPicPr/>
          <p:nvPr/>
        </p:nvPicPr>
        <p:blipFill>
          <a:blip r:embed="rId5"/>
          <a:stretch/>
        </p:blipFill>
        <p:spPr>
          <a:xfrm>
            <a:off x="3619440" y="27241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3" descr=""/>
          <p:cNvPicPr/>
          <p:nvPr/>
        </p:nvPicPr>
        <p:blipFill>
          <a:blip r:embed="rId6"/>
          <a:stretch/>
        </p:blipFill>
        <p:spPr>
          <a:xfrm>
            <a:off x="6289560" y="2611440"/>
            <a:ext cx="1067040" cy="19051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5" descr=""/>
          <p:cNvPicPr/>
          <p:nvPr/>
        </p:nvPicPr>
        <p:blipFill>
          <a:blip r:embed="rId7"/>
          <a:stretch/>
        </p:blipFill>
        <p:spPr>
          <a:xfrm>
            <a:off x="5899320" y="4865760"/>
            <a:ext cx="1847520" cy="13906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" descr=""/>
          <p:cNvPicPr/>
          <p:nvPr/>
        </p:nvPicPr>
        <p:blipFill>
          <a:blip r:embed="rId8"/>
          <a:stretch/>
        </p:blipFill>
        <p:spPr>
          <a:xfrm>
            <a:off x="3230640" y="4543560"/>
            <a:ext cx="1886040" cy="1295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7-04-25T16:17:41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