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E5F-E554-48B7-B3B3-DCC81611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E0F-470D-4A83-A589-6D8423C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2AD-98BD-44AE-9A6A-B1224FBA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9FD-C766-46A5-A849-29CFD047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2D7-0502-4ECA-83FC-2AD12F5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7F0-4CE5-4A2B-BCBE-32B90F8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86C-A708-404B-B345-46B35C0B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064-3F42-4195-8F93-138152A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2C4-53AF-41A6-9F14-E1D798DD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066-7E74-4F20-888A-A9BD2A1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1DF-130D-4CFD-BF57-68020B6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F77-CC5A-4E78-99B7-1F1AA0F2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B174-5D7C-493C-8601-65A46BCE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МУНИЦИПАЛЬНОЕ  БЮДЖЕТНОЕ  ДОШКОЛЬНОЕ ОБРАЗОВАТЕЛЬНОЕ  УЧРЕЖДЕНИЕ 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«ЦЕНТР РАЗВИТИЯ РЕБЁНКА – ДЕТСКИЙ САД «ТАНЮША»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пгт. Фёдоровск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«Здоровый  образ жизни  в ДОУ»</a:t>
            </a:r>
            <a:br>
              <a:rPr sz="3200"/>
            </a:b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24360" y="45813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Группа № 3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оспит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орда Алл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митриева Любовь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ф\Pictures\i (2).jpg"/>
          <p:cNvPicPr/>
          <p:nvPr/>
        </p:nvPicPr>
        <p:blipFill>
          <a:blip r:embed="rId1"/>
          <a:stretch/>
        </p:blipFill>
        <p:spPr>
          <a:xfrm>
            <a:off x="324000" y="3789360"/>
            <a:ext cx="3336840" cy="19321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24000" y="260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24000" y="148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24000" y="28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395280" y="378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0920" y="189000"/>
            <a:ext cx="46814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нципы закал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G:\DCIM\100MSDCF\DSC06576.JPG"/>
          <p:cNvPicPr/>
          <p:nvPr/>
        </p:nvPicPr>
        <p:blipFill>
          <a:blip r:embed="rId1"/>
          <a:stretch/>
        </p:blipFill>
        <p:spPr>
          <a:xfrm>
            <a:off x="5867280" y="189000"/>
            <a:ext cx="310536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G:\DCIM\100MSDCF\DSC06582.JPG"/>
          <p:cNvPicPr/>
          <p:nvPr/>
        </p:nvPicPr>
        <p:blipFill>
          <a:blip r:embed="rId2"/>
          <a:stretch/>
        </p:blipFill>
        <p:spPr>
          <a:xfrm>
            <a:off x="2987640" y="2060640"/>
            <a:ext cx="2819520" cy="1584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G:\DCIM\100MSDCF\DSC06579.JPG"/>
          <p:cNvPicPr/>
          <p:nvPr/>
        </p:nvPicPr>
        <p:blipFill>
          <a:blip r:embed="rId3"/>
          <a:stretch/>
        </p:blipFill>
        <p:spPr>
          <a:xfrm>
            <a:off x="179280" y="1413000"/>
            <a:ext cx="2697120" cy="1554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:\DCIM\100MSDCF\DSC06667.JPG"/>
          <p:cNvPicPr/>
          <p:nvPr/>
        </p:nvPicPr>
        <p:blipFill>
          <a:blip r:embed="rId4"/>
          <a:stretch/>
        </p:blipFill>
        <p:spPr>
          <a:xfrm>
            <a:off x="0" y="3429000"/>
            <a:ext cx="2736720" cy="153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G:\DCIM\100MSDCF\DSC06662.JPG"/>
          <p:cNvPicPr/>
          <p:nvPr/>
        </p:nvPicPr>
        <p:blipFill>
          <a:blip r:embed="rId5"/>
          <a:stretch/>
        </p:blipFill>
        <p:spPr>
          <a:xfrm>
            <a:off x="2916360" y="4292640"/>
            <a:ext cx="2808000" cy="1577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5796000" y="2060640"/>
            <a:ext cx="33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Постепенность закаливающи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Учет индивидуальных особенностей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116000" y="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250920" y="549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95280" y="2317320"/>
            <a:ext cx="8748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79280" y="1413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50920" y="256536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50920" y="28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50920" y="3906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250920" y="4724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G:\DCIM\100MSDCF\DSC06647.JPG"/>
          <p:cNvPicPr/>
          <p:nvPr/>
        </p:nvPicPr>
        <p:blipFill>
          <a:blip r:embed="rId1"/>
          <a:stretch/>
        </p:blipFill>
        <p:spPr>
          <a:xfrm>
            <a:off x="0" y="2924280"/>
            <a:ext cx="363528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179280" y="189000"/>
            <a:ext cx="482436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гры на свежем воздух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G:\DCIM\100MSDCF\DSC06651.JPG"/>
          <p:cNvPicPr/>
          <p:nvPr/>
        </p:nvPicPr>
        <p:blipFill>
          <a:blip r:embed="rId2"/>
          <a:stretch/>
        </p:blipFill>
        <p:spPr>
          <a:xfrm>
            <a:off x="3851280" y="1052640"/>
            <a:ext cx="195120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D:\фото 3 группа\DSC06657.JPG"/>
          <p:cNvPicPr/>
          <p:nvPr/>
        </p:nvPicPr>
        <p:blipFill>
          <a:blip r:embed="rId3"/>
          <a:stretch/>
        </p:blipFill>
        <p:spPr>
          <a:xfrm>
            <a:off x="5899320" y="0"/>
            <a:ext cx="324468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3"/>
          <p:cNvSpPr/>
          <p:nvPr/>
        </p:nvSpPr>
        <p:spPr>
          <a:xfrm>
            <a:off x="6012000" y="2492280"/>
            <a:ext cx="313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Так приятно посе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 любое время год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Тропинки пар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скверов и ал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Они для нас, как островки приро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Так щедро дар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свежий воздух дл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F:\DCIM\Camera\IMG_20150925_111629.jpg"/>
          <p:cNvPicPr/>
          <p:nvPr/>
        </p:nvPicPr>
        <p:blipFill>
          <a:blip r:embed="rId4"/>
          <a:stretch/>
        </p:blipFill>
        <p:spPr>
          <a:xfrm>
            <a:off x="324000" y="1052640"/>
            <a:ext cx="331128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F:\DCIM\Camera\IMG_20150925_112007.jpg"/>
          <p:cNvPicPr/>
          <p:nvPr/>
        </p:nvPicPr>
        <p:blipFill>
          <a:blip r:embed="rId5"/>
          <a:stretch/>
        </p:blipFill>
        <p:spPr>
          <a:xfrm>
            <a:off x="2771640" y="4365720"/>
            <a:ext cx="360072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95280" y="1709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395280" y="2852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68360" y="4292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50920" y="981000"/>
            <a:ext cx="40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жи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imes New Roman"/>
                <a:ea typeface="Sakkal Majalla"/>
              </a:rPr>
              <a:t>-</a:t>
            </a:r>
            <a:r>
              <a:rPr b="0" i="1" lang="en-US" sz="2800" spc="-1" strike="noStrike">
                <a:solidFill>
                  <a:srgbClr val="3333ff"/>
                </a:solidFill>
                <a:latin typeface="Times New Roman"/>
                <a:ea typeface="Sakkal Majall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imes New Roman"/>
                <a:ea typeface="Sakkal Majalla"/>
              </a:rPr>
              <a:t>это правильное чередование периодов работы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79280" y="260280"/>
            <a:ext cx="87854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лагоприятная  психологическая обстановка в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D:\фото 3 группа\DSC06619.JPG"/>
          <p:cNvPicPr/>
          <p:nvPr/>
        </p:nvPicPr>
        <p:blipFill>
          <a:blip r:embed="rId1"/>
          <a:stretch/>
        </p:blipFill>
        <p:spPr>
          <a:xfrm>
            <a:off x="6443640" y="1052640"/>
            <a:ext cx="2386080" cy="1339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D:\фото 3 группа\DSC06671.JPG"/>
          <p:cNvPicPr/>
          <p:nvPr/>
        </p:nvPicPr>
        <p:blipFill>
          <a:blip r:embed="rId2"/>
          <a:stretch/>
        </p:blipFill>
        <p:spPr>
          <a:xfrm>
            <a:off x="6443640" y="2637000"/>
            <a:ext cx="27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:\фото 3 группа\DSC06675.JPG"/>
          <p:cNvPicPr/>
          <p:nvPr/>
        </p:nvPicPr>
        <p:blipFill>
          <a:blip r:embed="rId3"/>
          <a:stretch/>
        </p:blipFill>
        <p:spPr>
          <a:xfrm>
            <a:off x="6059520" y="4365720"/>
            <a:ext cx="3084480" cy="1731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:\фото 3 группа\DSC06713.JPG"/>
          <p:cNvPicPr/>
          <p:nvPr/>
        </p:nvPicPr>
        <p:blipFill>
          <a:blip r:embed="rId4"/>
          <a:stretch/>
        </p:blipFill>
        <p:spPr>
          <a:xfrm>
            <a:off x="3780000" y="1413000"/>
            <a:ext cx="2815920" cy="1582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:\фото 3 группа\DSC06622.JPG"/>
          <p:cNvPicPr/>
          <p:nvPr/>
        </p:nvPicPr>
        <p:blipFill>
          <a:blip r:embed="rId5"/>
          <a:stretch/>
        </p:blipFill>
        <p:spPr>
          <a:xfrm>
            <a:off x="3635280" y="3284640"/>
            <a:ext cx="2600280" cy="133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D:\фото 3 группа\DSC06604.JPG"/>
          <p:cNvPicPr/>
          <p:nvPr/>
        </p:nvPicPr>
        <p:blipFill>
          <a:blip r:embed="rId6"/>
          <a:stretch/>
        </p:blipFill>
        <p:spPr>
          <a:xfrm>
            <a:off x="3132000" y="4581360"/>
            <a:ext cx="2827440" cy="1589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D:\фото 3 группа\DSC06595.JPG"/>
          <p:cNvPicPr/>
          <p:nvPr/>
        </p:nvPicPr>
        <p:blipFill>
          <a:blip r:embed="rId7"/>
          <a:stretch/>
        </p:blipFill>
        <p:spPr>
          <a:xfrm>
            <a:off x="250920" y="2421000"/>
            <a:ext cx="2957400" cy="1660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D:\фото 3 группа\DSC06602.JPG"/>
          <p:cNvPicPr/>
          <p:nvPr/>
        </p:nvPicPr>
        <p:blipFill>
          <a:blip r:embed="rId8"/>
          <a:stretch/>
        </p:blipFill>
        <p:spPr>
          <a:xfrm>
            <a:off x="282600" y="4292640"/>
            <a:ext cx="2957400" cy="16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1709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395280" y="2852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468360" y="4292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7" descr=""/>
          <p:cNvPicPr/>
          <p:nvPr/>
        </p:nvPicPr>
        <p:blipFill>
          <a:blip r:embed="rId1"/>
          <a:stretch/>
        </p:blipFill>
        <p:spPr>
          <a:xfrm>
            <a:off x="963720" y="828720"/>
            <a:ext cx="877680" cy="343224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19" descr=""/>
          <p:cNvPicPr/>
          <p:nvPr/>
        </p:nvPicPr>
        <p:blipFill>
          <a:blip r:embed="rId2"/>
          <a:stretch/>
        </p:blipFill>
        <p:spPr>
          <a:xfrm>
            <a:off x="920880" y="930240"/>
            <a:ext cx="6750000" cy="4581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179280" y="189000"/>
            <a:ext cx="84250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инамика снижения забол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468360" y="1268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620640"/>
            <a:ext cx="8424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Перспективы на будущ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684360" y="2060640"/>
            <a:ext cx="8526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продолжать работу по данн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проводить консультации для 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разрабатывать и внедрять в работу с детьм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гры, конкурсы, меропри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пособствующие форм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468360" y="1268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24000" y="981000"/>
            <a:ext cx="7561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-243000"/>
            <a:ext cx="878544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Цель проекта: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паганда здорового образа жизни среди детей и родителе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Задачи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-создание благоприятных условий для воспитания у детей устойчивых навыков здорового образа жизни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-прививать любовь к физическим упражнениям, закаливанию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-формировать осмысленное и осознанное отношение к физической культуре и к здоровому образу жизни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-воспитывать общую культуру поведения и потребность ЗОЖ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-повышать грамотность родителей в вопросах воспитания и укрепления здоровья детей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33336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8b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бота о здоровье </a:t>
            </a:r>
            <a:r>
              <a:rPr b="1" i="1" lang="ru-RU" sz="2800" spc="-1" strike="noStrike">
                <a:solidFill>
                  <a:srgbClr val="22228b"/>
                </a:solidFill>
                <a:latin typeface="Times New Roman"/>
              </a:rPr>
              <a:t>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8b"/>
                </a:solidFill>
                <a:latin typeface="Arial Black"/>
              </a:rPr>
              <a:t>В. А. Сухомлински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доровье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5181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22228b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22228b"/>
                </a:solidFill>
                <a:latin typeface="Times New Roman"/>
              </a:rPr>
              <a:t>физических дефектов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</a:rPr>
              <a:t>                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доровый образ жизни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- это индивидуальная   система поведения человека, направленная на сохранение и укрепление здоровья</a:t>
            </a:r>
            <a:br>
              <a:rPr sz="36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Двигательная активность, физическая культура и спор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Закаливани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Рациональный режи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Рациональное питани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ичная гигие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Благоприятная психологическая обстановка в саду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Экологически грамотно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оведени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28" descr="sm"/>
          <p:cNvPicPr/>
          <p:nvPr/>
        </p:nvPicPr>
        <p:blipFill>
          <a:blip r:embed="rId8"/>
          <a:stretch/>
        </p:blipFill>
        <p:spPr>
          <a:xfrm>
            <a:off x="5175360" y="2421000"/>
            <a:ext cx="396864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421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Спорт нам плечи расправляет,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Силу, ловкость нам дает.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н нам мышцы развивает,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а рекорды нас зове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419640" y="549360"/>
            <a:ext cx="5437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зическая культура и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:\DCIM\100MSDCF\DSC06698.JPG"/>
          <p:cNvPicPr/>
          <p:nvPr/>
        </p:nvPicPr>
        <p:blipFill>
          <a:blip r:embed="rId1"/>
          <a:stretch/>
        </p:blipFill>
        <p:spPr>
          <a:xfrm>
            <a:off x="468360" y="2133720"/>
            <a:ext cx="398124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DCIM\100MSDCF\DSC06701.JPG"/>
          <p:cNvPicPr/>
          <p:nvPr/>
        </p:nvPicPr>
        <p:blipFill>
          <a:blip r:embed="rId2"/>
          <a:stretch/>
        </p:blipFill>
        <p:spPr>
          <a:xfrm>
            <a:off x="0" y="260280"/>
            <a:ext cx="3308400" cy="1859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G:\DCIM\100MSDCF\DSC06693.JPG"/>
          <p:cNvPicPr/>
          <p:nvPr/>
        </p:nvPicPr>
        <p:blipFill>
          <a:blip r:embed="rId3"/>
          <a:stretch/>
        </p:blipFill>
        <p:spPr>
          <a:xfrm>
            <a:off x="1116000" y="4221000"/>
            <a:ext cx="4032360" cy="18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1280" y="2565360"/>
            <a:ext cx="4753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то с зарядкой дружит смело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то с утра прогонит лень,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Будет смелым и умелым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 веселым целый день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G:\DCIM\100MSDCF\DSC06636.JPG"/>
          <p:cNvPicPr/>
          <p:nvPr/>
        </p:nvPicPr>
        <p:blipFill>
          <a:blip r:embed="rId1"/>
          <a:stretch/>
        </p:blipFill>
        <p:spPr>
          <a:xfrm>
            <a:off x="468360" y="189000"/>
            <a:ext cx="406728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G:\DCIM\100MSDCF\DSC06640.JPG"/>
          <p:cNvPicPr/>
          <p:nvPr/>
        </p:nvPicPr>
        <p:blipFill>
          <a:blip r:embed="rId2"/>
          <a:stretch/>
        </p:blipFill>
        <p:spPr>
          <a:xfrm>
            <a:off x="468360" y="3068640"/>
            <a:ext cx="4248000" cy="238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D:\фото 3 группа\DSC06645.JPG"/>
          <p:cNvPicPr/>
          <p:nvPr/>
        </p:nvPicPr>
        <p:blipFill>
          <a:blip r:embed="rId3"/>
          <a:stretch/>
        </p:blipFill>
        <p:spPr>
          <a:xfrm>
            <a:off x="4788000" y="189000"/>
            <a:ext cx="41018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684360" y="2721240"/>
            <a:ext cx="65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8b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492360" y="189000"/>
            <a:ext cx="5400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циональ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G:\DCIM\100MSDCF\DSC06683.JPG"/>
          <p:cNvPicPr/>
          <p:nvPr/>
        </p:nvPicPr>
        <p:blipFill>
          <a:blip r:embed="rId1"/>
          <a:stretch/>
        </p:blipFill>
        <p:spPr>
          <a:xfrm>
            <a:off x="971640" y="3716280"/>
            <a:ext cx="4486320" cy="2449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3333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Завтрак, полд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нём об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И вечерний ужин  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ля здоровья малыш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Режим питания нуж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Кушай правильно, д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Вовремя и в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одрастать ты будешь в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Здоровым неп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539640" y="189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4859280" y="2708280"/>
            <a:ext cx="42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осле того, как дети проснулись, проводи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имнастика пробуждения.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Это специально сконструированный комплекс упражнений, позволяющий постепенно разогреть мышцы и поднять настроение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684360" y="2997360"/>
            <a:ext cx="61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0" y="407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11280" y="4581360"/>
            <a:ext cx="62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79280" y="18900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н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- важное условие для здоровья, бодрости и высокой работоспособност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G:\DCIM\100MSDCF\DSC06569.JPG"/>
          <p:cNvPicPr/>
          <p:nvPr/>
        </p:nvPicPr>
        <p:blipFill>
          <a:blip r:embed="rId1"/>
          <a:stretch/>
        </p:blipFill>
        <p:spPr>
          <a:xfrm>
            <a:off x="5148360" y="189000"/>
            <a:ext cx="3825720" cy="233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G:\DCIM\100MSDCF\DSC06564.JPG"/>
          <p:cNvPicPr/>
          <p:nvPr/>
        </p:nvPicPr>
        <p:blipFill>
          <a:blip r:embed="rId2"/>
          <a:stretch/>
        </p:blipFill>
        <p:spPr>
          <a:xfrm>
            <a:off x="395280" y="1268280"/>
            <a:ext cx="3889440" cy="231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G:\DCIM\100MSDCF\DSC06567.JPG"/>
          <p:cNvPicPr/>
          <p:nvPr/>
        </p:nvPicPr>
        <p:blipFill>
          <a:blip r:embed="rId3"/>
          <a:stretch/>
        </p:blipFill>
        <p:spPr>
          <a:xfrm>
            <a:off x="468360" y="3789360"/>
            <a:ext cx="387036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Админ</cp:lastModifiedBy>
  <dcterms:modified xsi:type="dcterms:W3CDTF">2016-02-25T06:24:42Z</dcterms:modified>
  <cp:revision>108</cp:revision>
  <dc:subject/>
  <dc:title>Your Title Here…</dc:title>
</cp:coreProperties>
</file>