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C53-664C-48CF-8435-31A98740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D00-5B0C-48A9-B3F0-31D21DBF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BDE83-9B76-49CB-9856-1E3516F0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C4E58-45F0-4FA2-9E86-B5B58258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9B7F0-7F59-4D84-800D-12494594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8F2E9-92C3-4D3A-83A9-55E1411B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5AED6-1C6E-4982-8ECA-84834C59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13C23-714E-4F7C-AE7E-A92EC892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90646-C22D-478E-BF05-49E5282B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E1FCC-6C24-4DA8-AE7B-D0AFE0D7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7753E-8BEC-4792-9FF4-CE054873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6CE42-3876-43F3-A0DF-F575BD2B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B89-9EA4-4AE6-8BBC-146FF49A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D960F-755F-4426-8A40-5BBC497B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3BA9E-8874-4890-9B94-8576F4C1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AB9CD-534F-48B0-912F-589696A9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EAAC3-C7E5-4DA1-8207-FC1A024F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8BB58-DF4A-4256-8E9E-A5939642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F5B3A-DBA8-436D-A712-CEFA09F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44545-A9E5-45C4-98A8-61082F90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6A771-3A4A-4DDF-A5A5-67196134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898CF-8BD2-4F29-B1A0-0C79E93D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7BD37-CFA5-4594-95E2-857D9B45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A71-3F26-4541-86EE-224173C9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4B655-4706-41BB-9423-79A62F2A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7F4C0-21C2-4662-973A-8FF662A4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D4DC1-E524-4F27-9102-8756DA53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1B009-8E20-4C6D-8F1F-373D9027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60EB3-46CB-4ADB-9083-BFCD2597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D100D-0C62-4CC7-B3BA-DD32ABBD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B8E61-CF21-4C2D-8B1A-8441C8AD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CD894-E60A-49DE-A739-DF201004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660B3-06D6-4A76-A87A-36A0E6DE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9E603-421C-48D6-AFAA-597EC142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C136-1389-4EE2-AD77-6EFB2E64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C2AE3-2DE1-4A94-A20F-296C78AF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5530F-BA8D-489B-991D-AF791A05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00419-2525-4EFA-81B4-5FF47E83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F46AF-690D-430F-8280-9A5FD3A3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71507-724D-4FB0-AEBA-9B89D01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77F42-29FA-4B60-8A2C-8A70294D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13249-B2AA-4195-8E10-2E9EDBAE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5218D-BA3D-4E39-BDF5-408F37C3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78204-6C13-4ACC-9FA6-5D5F01D9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9C474-E9F7-4E1B-A2FD-C68D20F9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AB55-8EB8-4106-AC81-D99AD07B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57759-C652-469E-BCA6-ACDAD18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B418D-0F9E-4F88-A532-836FF5E3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D7453-27CB-4287-9A90-19EB501F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81AF9-6C6C-494F-B67E-B35AF161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AFBB8-8518-40E7-8891-7F53DC6E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13054-4444-41A9-AFDA-C6748B27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87AB0-9F48-408E-BFF3-5868DE4C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C74D1-E519-4835-B361-6D65FFC6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90EA5-1F89-4D88-BF35-83AC8696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E2FFC-DB89-4F8E-915D-38B5D42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6A5E-59D7-4A22-8E91-A45E3F27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A7EA2-4419-4A06-A877-EAFDC3FB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79B75-6A41-4A13-BE3D-C5F600FA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21D09-14A3-43BF-BE1D-A0F17A52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02360-A5F8-4788-9949-55BDF49B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94DFE-7F6A-43DA-A0E6-B6C30C0C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2BD18-D992-468A-9AFB-41F2D408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73256-2AF7-430E-9607-A29750FE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6D384-978B-446A-B397-926FBE42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6124C-6957-4D5E-A2CE-4D7232CD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3D573-F403-4D7F-A6BC-B2C87CA4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1A16-F46D-4360-A7DD-22476A63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D21D8-B12A-44DE-ABF4-0F0CFAE8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4CD3A-95EE-4E07-BF11-21277A1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2418A-53C4-4B6D-8D20-FB49F113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082DB-90EF-45E1-A16A-D17AA14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484B1-E79B-442F-85AF-FD3210D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D53E0-EE00-4145-AE8B-B73F40B4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239E9-F910-4A74-98B7-F9951224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6C826-DBB7-41EC-BA4B-FFA1EB89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51677-77CC-485C-AC5C-1DF17BEE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8A5C6-30A2-41AE-9F1A-DEAEA701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9F24-8EAD-42D4-9623-E5C3583A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44297-331D-4BD4-AA5E-D1E80E34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4E2D9-5CD5-4C53-832D-C15AD4D6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0A1E8-280F-4D2F-9E24-EFC2E04C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3D8D5-C855-49D3-A7C5-8C8D4649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E3F88-4B72-4822-BB48-7DB66046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98AD5-3CF3-40DA-B02A-93A99253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EA840-0EDD-483A-A976-8DBDEBE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97F9E-2410-4183-B4C9-FB22DBFE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B7884-057F-400A-A64D-4A2326FE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EC8E6-9264-493F-88EC-D5C04626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DC45-05D7-4381-8482-034DD791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9BBF8-CF8A-4FD5-9FAB-872D367F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755B65-E9BA-42E3-A17F-173E2E06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1F21A-5180-4F04-B6B9-E43D9A4A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1AFA8-660A-4ECD-B3AB-A4D6F10A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36D7E-1903-46C7-988B-E5B52FD8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B9B20-F9CB-4B93-A1F5-DFB3708F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163DC-43F1-42B0-9017-8E9F36E3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EA331-7167-4115-92E6-9D1DC04F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0A456-B6FE-4B23-9227-D2ACD076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503A6-A59E-47C1-9B4A-8CD02214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1BA7-C74C-48AF-8858-542D68FB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E41E0-D10C-4B37-B0BC-286C1690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E332D-C341-4185-AAA7-93E1903F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99B45-5DBE-411A-A97C-8C5612B9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C2303-7B12-486D-B083-579D64E7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62978-98D6-4C8B-B3AD-5ACFF927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3512F-C6C8-416A-B4EC-8D2DA435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084CCA-7386-4A00-A37C-5CE12E40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EA26CA-49BE-450A-8C37-6AC9FC6A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A588D-4A3E-40A7-BD18-EB835324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67E9CA-0210-4C02-AC99-604A3CD1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C63-E850-4BA7-A820-F1203752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7799-D6A9-4E15-BDBE-B35384F6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5F1BE-167E-4D45-A4BF-D80D8E79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0BA7F1-D1AF-4282-BFBE-6044F8D9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F3A33-0C23-49CB-9A42-3F595168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9B2D8-D00D-4B4C-A4F4-55EEC2AE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5A270-AF76-4819-9374-3D452FD3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4E012-BC5F-40F5-B100-D3EE26AB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A3AC73-6FC6-492B-AA7B-551CF837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B9C4A9-843A-4D5B-8DBC-70F31911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87B562-A3EA-4344-894A-7B82A2DF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017EF-C67B-40E3-9E19-F71923F3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8CB1-89EC-470A-B3BD-602B859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6314A-C7E4-48A1-9BD3-39C9BB7F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E30E7-F34D-4D8F-A97E-4154B7A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B9B9E-B7DF-448D-AA84-90897022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332CBD-9736-4BE0-9DBA-4C6900BF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5AE15-B57F-48DE-9F4C-2E759359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BA986-4A2B-406F-9CDC-EC8FE5C2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BDEB7A-0FB4-4B50-994F-C6F96B21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54A6-11C8-4DD2-A9FA-B5556D55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C28F-B0D4-4587-92CB-09A6A37F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5A7F-CA06-41B6-B5AB-F64AA8C0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AD0D-EC51-4CED-92F8-5F650176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DD52-5ABF-4504-B827-70D9F164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41CB5-0E00-47BF-AC42-7A474DA0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367C-59FF-481C-9510-D180CD72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2F42D-A429-42B5-9CAE-BFF7FD86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F1A-30DB-475D-8FB6-90F8799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A1145-4E21-4A06-BDF8-C8225463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35AA-D3AE-44B0-9B3C-B0C4163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CE32-B725-42DD-9C68-C67B1327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FD921-758A-4FB0-96DB-C3AE8F30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403E-D70F-4F3E-96DD-381A0A79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699D-4304-492F-89D7-F1D76627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5101-2D46-40FA-A6B7-08699C65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E9319-293B-4DC7-893B-E76C4E5B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8E45-A38A-454F-A70A-0DA16AEF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1119F-F052-4BE4-990E-8E5F318A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88D-2880-41E4-8CE4-15029E1F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4451-BD1E-471F-BC65-5144BB81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4F85-56DD-4081-8789-16CCE599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74C0C-5BD1-4A00-AA47-B85B8F86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B712-28B0-4567-8A71-17A64DAC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0F92-B492-4705-ABE4-267EAF8B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6C0FD-56A4-4A60-8D6F-E284F677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544A7-3C8C-4E7B-BAEA-000927EF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B1F78-B2CF-496C-AC78-C55ED968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1D38F-96DA-41F1-96DD-ACA4BBF5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57A8-5E00-445A-AECB-4EB3370F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67A-4025-4054-A38D-234EE78E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B8F69-0CBF-4584-BCBD-7FCCFB09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25729-97C3-4880-AB06-C9AF45C1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1DEF-D0FA-461E-80F7-53DF47C5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F6CC8-7EE6-4764-93E8-B34A7AC4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91B77-F966-4ABA-91DA-BAA0AAE6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DEA7A-99D8-4C27-94DD-E5B35E44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6D1F2-5F7E-4E74-B77A-F39E0E5C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D4F6-9CCD-4883-8827-93B5BBBA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D902A-6485-434E-89A3-AC703457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745E6-1DBF-466C-9876-63665C98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75A-6571-4802-8814-B67E3DA6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E6D3-410C-41AA-853D-7102290F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AD2D9-0EA0-460C-B152-2FFF7BE2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2E94A-6811-427B-892F-FC3D0BEE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4E30D-2A89-4883-9DBF-A923BA22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60AFA-5B2A-4443-9F33-1CFA5A61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AA1E6-7181-499F-B074-2A12AFA5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EE52A-E685-4D58-A187-2EA62593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23A1A-0A60-423B-888A-3FE65CB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37BB5-0573-4A9A-8CEF-54F88B65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5605D-971D-4C84-AF2E-62D1E540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D5D-7402-46A5-B564-6A7555D8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1C6D5-47F4-41BB-B73B-32B22F6D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A2AD3-DFC6-4199-B59A-8ECEE81B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8EE62-0518-4E86-AEF9-FC9463AB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76BC4-92A7-4BAC-9695-2297DCB7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6210D-F855-4B99-B73F-0DB5DB8E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708EC-ACC8-46DB-962E-12F1B3DB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0D6C4-C3CF-48A9-BE5A-93175E6F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F0F9F-1611-4D31-A3EB-2B788E07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1ACA0-981E-4371-AB5E-61E3B63D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BAD93-BD6A-43C5-A4F9-EA392D14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267-A52C-454E-ACD8-46B3E8D5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FA78F-2021-4D9A-A1E7-D99EE004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B8A5A-05FB-4ECE-B3EF-6E6A1B2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DD07E-86DA-4059-AA5A-C85C1133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DBA6-491F-40DA-8C03-0D1E2BC2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38AB6-DF9C-4F81-92C0-0EF40230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8C110-23C7-41BA-A7D3-BA67553A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1A461-528D-402A-BFDA-96D44D65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9E872-D961-44CC-ABFF-FED388E8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86ECB-8AB7-4817-BC85-A2F0FACB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0B524-B372-45F2-8C6E-F383E1A7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79F-2289-4463-9B31-CAD033B5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D51EA-9F47-480C-896B-9AFAF34C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8832E-B897-4BCA-9FE7-31D51499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B9042-BB14-47B5-B1E2-3C17D851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39355-2DB6-4412-A15E-B81BDD2C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342F7-0863-43C4-BE9C-17634CEA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D323A-DECC-4894-BBAE-BE8686D2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80E8F-F10C-451A-B2A6-102B123E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9D51A-A65D-4B26-B26A-CA42C7B8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4D47D-DBBF-459B-BD30-DBE2272F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443CE-18D7-45AC-B5F0-7137B676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3654-AF88-400D-BD40-5D460D6585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FA1A-A5DF-4B35-8949-1EF008A4B8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17DB-FEE6-444B-AE9A-57D80CEEBC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C88C-144B-4479-B16D-E2490D346D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776D-FAC7-4DAD-8376-355A575E8E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29A6-63CC-4840-991B-A5CD0ABE16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A2FF-1F52-4BC7-A0C7-D1EAF6D32F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F919-B276-46C0-B4BE-3EC854985D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722F-9D5C-49CD-B604-78F764BD7D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E9EE-9BA5-40AF-8DA0-710CB1427B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BDBD-4E5D-4B64-9816-53554E9C58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AC3E-B4C5-4EBF-9252-6CFCFD0529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66D2-6BAB-4DB7-AC32-E782A754CC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2E92-D5EA-4E2D-959E-81AA732CF3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5FE1-0955-4737-ABAC-714409BD51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37AF-C07E-435F-AEF7-71124C132E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EFD3-0652-4B0C-AB7F-AF3178522E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0F53-E828-4658-89EE-7E54246094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0;&#1085;&#1082;&#1077;&#1090;&#1072;%20&#1076;&#1083;&#1103;%20&#1088;&#1086;&#1076;&#1080;&#1090;&#1077;&#1083;&#1077;&#1081;.docx" TargetMode="Externa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4;&#1073;&#1088;&#1072;&#1079;&#1086;&#1074;&#1072;&#1090;&#1077;&#1083;&#1100;&#1085;&#1072;&#1103;%20&#1076;&#1077;&#1103;&#1090;&#1077;&#1083;&#1100;&#1085;&#1086;&#1089;&#1090;&#1100;.docx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784692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d3b7b"/>
                </a:solidFill>
                <a:latin typeface="Times New Roman"/>
                <a:ea typeface="Times New Roman"/>
              </a:rPr>
              <a:t>ПРОЕКТ</a:t>
            </a:r>
            <a:br>
              <a:rPr sz="5400"/>
            </a:br>
            <a:r>
              <a:rPr b="1" i="1" lang="ru-RU" sz="5400" spc="-1" strike="noStrike">
                <a:solidFill>
                  <a:srgbClr val="1d3b7b"/>
                </a:solidFill>
                <a:latin typeface="Times New Roman"/>
                <a:ea typeface="Times New Roman"/>
              </a:rPr>
              <a:t>«ВОЛШЕБНОЕ МЫЛО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3203280" y="3068280"/>
            <a:ext cx="532908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fa4"/>
                </a:solidFill>
                <a:latin typeface="Calibri"/>
              </a:rPr>
              <a:t>РАЗРАБОТЧИК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fa4"/>
                </a:solidFill>
                <a:latin typeface="Calibri"/>
              </a:rPr>
              <a:t>БАЛУЕВА О. А., ИВАНОВА Л. С. ВОСПИТАТЕЛИ МДОУ Д/С №4 «ОЛИМПИЙСКИЙ» Г. УГЛИЧ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7" name="Рисунок 4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2381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539640" y="404640"/>
            <a:ext cx="80647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4fa4"/>
                </a:solidFill>
                <a:latin typeface="Calibri"/>
              </a:rPr>
              <a:t>ЗАВЕРШАЮЩИ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бота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работы над проек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тоотчёт о проведённых мероприят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заимодействие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торное диагностическое обследование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заимодействие с родител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торное анкетирование «Чему научился ваш ребёно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готовление родителями книжек – малыш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готовление буклетов по тем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выставки мы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лечение «Волшебное мыл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468360" y="620280"/>
            <a:ext cx="8207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ИАГНОСТИРУЮЩИЙ ИНСТРУМЕНТА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А НАБЛЮДЕНИЯ СФОРМИРОВАННОСТИ НАВЫКА МЫТЬЯ Р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468360" y="3068640"/>
          <a:ext cx="8207280" cy="2305080"/>
        </p:xfrm>
        <a:graphic>
          <a:graphicData uri="http://schemas.openxmlformats.org/drawingml/2006/table">
            <a:tbl>
              <a:tblPr/>
              <a:tblGrid>
                <a:gridCol w="1547640"/>
                <a:gridCol w="1386000"/>
                <a:gridCol w="1389240"/>
                <a:gridCol w="1312560"/>
                <a:gridCol w="1544760"/>
                <a:gridCol w="1027080"/>
              </a:tblGrid>
              <a:tr h="2305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милия имя ребё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8a8d0"/>
                      </a:solidFill>
                    </a:lnL>
                    <a:lnR w="5760">
                      <a:solidFill>
                        <a:srgbClr val="48a8d0"/>
                      </a:solidFill>
                    </a:lnR>
                    <a:lnT w="5760">
                      <a:solidFill>
                        <a:srgbClr val="48a8d0"/>
                      </a:solidFill>
                    </a:lnT>
                    <a:lnB w="5760">
                      <a:solidFill>
                        <a:srgbClr val="48a8d0"/>
                      </a:solidFill>
                    </a:lnB>
                    <a:solidFill>
                      <a:srgbClr val="e9f1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атывает рук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8a8d0"/>
                      </a:solidFill>
                    </a:lnL>
                    <a:lnR w="5760">
                      <a:solidFill>
                        <a:srgbClr val="48a8d0"/>
                      </a:solidFill>
                    </a:lnR>
                    <a:lnT w="5760">
                      <a:solidFill>
                        <a:srgbClr val="48a8d0"/>
                      </a:solidFill>
                    </a:lnT>
                    <a:lnB w="5760">
                      <a:solidFill>
                        <a:srgbClr val="48a8d0"/>
                      </a:solidFill>
                    </a:lnB>
                    <a:solidFill>
                      <a:srgbClr val="e9f1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чивает руки и намылив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т до появления п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8a8d0"/>
                      </a:solidFill>
                    </a:lnL>
                    <a:lnR w="5760">
                      <a:solidFill>
                        <a:srgbClr val="48a8d0"/>
                      </a:solidFill>
                    </a:lnR>
                    <a:lnT w="5760">
                      <a:solidFill>
                        <a:srgbClr val="48a8d0"/>
                      </a:solidFill>
                    </a:lnT>
                    <a:lnB w="5760">
                      <a:solidFill>
                        <a:srgbClr val="48a8d0"/>
                      </a:solidFill>
                    </a:lnB>
                    <a:solidFill>
                      <a:srgbClr val="e9f1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ыва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ы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8a8d0"/>
                      </a:solidFill>
                    </a:lnL>
                    <a:lnR w="5760">
                      <a:solidFill>
                        <a:srgbClr val="48a8d0"/>
                      </a:solidFill>
                    </a:lnR>
                    <a:lnT w="5760">
                      <a:solidFill>
                        <a:srgbClr val="48a8d0"/>
                      </a:solidFill>
                    </a:lnT>
                    <a:lnB w="5760">
                      <a:solidFill>
                        <a:srgbClr val="48a8d0"/>
                      </a:solidFill>
                    </a:lnB>
                    <a:solidFill>
                      <a:srgbClr val="e9f1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ходит полотенце и вытирается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у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8a8d0"/>
                      </a:solidFill>
                    </a:lnL>
                    <a:lnR w="5760">
                      <a:solidFill>
                        <a:srgbClr val="48a8d0"/>
                      </a:solidFill>
                    </a:lnR>
                    <a:lnT w="5760">
                      <a:solidFill>
                        <a:srgbClr val="48a8d0"/>
                      </a:solidFill>
                    </a:lnT>
                    <a:lnB w="5760">
                      <a:solidFill>
                        <a:srgbClr val="48a8d0"/>
                      </a:solidFill>
                    </a:lnB>
                    <a:solidFill>
                      <a:srgbClr val="e9f1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ет 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8a8d0"/>
                      </a:solidFill>
                    </a:lnL>
                    <a:lnR w="5760">
                      <a:solidFill>
                        <a:srgbClr val="48a8d0"/>
                      </a:solidFill>
                    </a:lnR>
                    <a:lnT w="5760">
                      <a:solidFill>
                        <a:srgbClr val="48a8d0"/>
                      </a:solidFill>
                    </a:lnT>
                    <a:lnB w="5760">
                      <a:solidFill>
                        <a:srgbClr val="48a8d0"/>
                      </a:solidFill>
                    </a:lnB>
                    <a:solidFill>
                      <a:srgbClr val="e9f1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ИАГНОСТ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АГНОСТИЧЕСКАЯ БЕС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 использованием иллюстративного материа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нужно сделать перед тем, как помыть ру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м мы моем ру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м мы вытираем  ру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висит твоё полотенц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684360" y="54900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СНАЩЕНИЕ ПРЕДМЕТНО -  ПРОСТРАНСТВЕННОЙ РАЗВИВАЮЩЕЙ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бор атрибутов для дидактических игр и игровых упраж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бор иллюстративного материала и художественной литературы по те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готовление алгоритма мытья ру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готовление макета «Мойдодыра» и оформление выставки мы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 Light"/>
              </a:rPr>
              <a:t>ИНФОРМАЦИОННЫЕ РЕСУРСЫ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фонькина Ю. А. Урунтаева Г. А. Как приобщить малыша к гигиене и самообслуживанию, 199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Белостоцкая Е. М., Виноградова Т. Ф. И др. Гигиенические основы воспитания детей от 3 до 7, 199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ндаренко а. К. Дидактические игры в детском саду, 199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хатова л. Воспитание культуры поведения.// Дошкольное воспитание, 19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ю о работе с семьёй. / Под ред. Н. Ф. Виноградовой, 198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рина и. В. Первые шаги от 0 до 3 лет. Засыпаем, кушаем, маму с папой слушаем, 200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бзеева в. А. Организация режимных процессов в ДОУ, 200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nsportal.Ru/detskiy-sad/zdorovyy-obraz-zhizni/2013/05/19/didakticheskie-igry-na-formirovanie-kultu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nsportal.ru/detskiy-sad/materialy-dlya-roditeley/2014/02/03/konspekt-roditelskogo-sobraniya-vo-2-mlgrup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539640" y="206064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611280" y="1125360"/>
            <a:ext cx="82072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РОК РЕАЛИЗ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меся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и раннего возраста от 1г. 6м до 2 лет, педагоги, роди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ИД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ко-ориентирова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539640" y="549360"/>
            <a:ext cx="813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ИНЦИПЫ  ДОШКОЛЬНОГО ОБРАЗОВАНИЯ, РЕАЛИЗУЕМЫЕ В ДАННОМ МЕРОПРИЯТ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гащение (амплификация) детского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роение образовательной деятельности на основе индивидуальных особенностей каждого ребёнка, при котором ребёнок становиться субъектом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йствие и сотрудничество детей и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трудничество организации с семьё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познавательных интересов и познавательных действий ребёнка в различны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растная адекватность дошкольного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468000" y="764640"/>
            <a:ext cx="82803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4fa4"/>
                </a:solidFill>
                <a:latin typeface="Calibri"/>
              </a:rPr>
              <a:t>ЦЕЛЕВЫЕ ОРИЕНТ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ёнок использует специфические культурно-фиксированные действия, знает назначения бытовых предметов и умеет пользоваться 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ладеет простейшими навыками самообслуживания, стремится проявлять самостояте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ладеет активной речью, включённой в общение; понимает речь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являет интерес к сверстникам, наблюдает за их действиями, подражает 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ся к общению со взрослыми и активно подражает им в движениях и действ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являет интерес к стихам, песн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468000" y="260280"/>
            <a:ext cx="8280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ПЛАНИРУЕМЫЙ РЕЗУЛЬТА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езультате реализации проект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детей сформируются предпосылки культурно-гигиенических навыков: умение закатывать рукава, намыливать руки мылом, смывать с рук  под струей воды пену, находить своё полотенце и  вытираться им; сформируются представления детей о необходимости содержать тело в чистоте; расширится пассивный словарный запас, активизируется  речь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родителей повысится заинтересованность в образовательной деятельности детей, разнообразятся формы  сотрудничества с семьё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педагога систематизируется методический материал по тем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468360" y="836280"/>
            <a:ext cx="8207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ультурно-гигиенические навыки очень важная часть культуры поведения. Необходимость опрятности: содержание в чистоте лица, тела, прически, одежды, обуви продиктована не только требованиями гигиены, но и нормами человеческих отношений. С первых дней жизни при формировании культурно-гигиенических навыков идёт не просто усвоение правил и норм поведения, а чрезвычайно важный процесс социализации, вхождения ребенка в мир взрослых. Наиболее благоприятный период для формирования культурно-гигиенических навыков – это ранний возраст. Поэтому задача педагога в игровой форме и с учетом возрастных особенностей развивать, формировать и закреплять культурно-гигиенические навыки детей с раннего дет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324000" y="40428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ЦЕЛ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здать условия для формирования у детей культурно-гигиенических навыков через различные виды деятельност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ЗАДАЧ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Формировать культурно-гигиенические навыки у детей раннего возрас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Формировать  первоначальные представления о необходимости содержать руки и тело в чистот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оспитывать у детей желание выглядеть чистыми, опрятны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ивлечь родителей к совместной проектной деятельност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овышать педагогическую компетентность родителей в  воспитания у детей культурно-гигиенических навыко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ополнить предметно-развивающую среду группы необходимым оборудованием, иллюстративным материалом, атрибутами для различных видов деятельности по тем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468360" y="549000"/>
            <a:ext cx="8207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ДГОТОВИТЕЛЬ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бота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бор и приобретение методической,  художественной литературы, иллюстративного материала, игрушек, атрибутов, оборудования для различных видов  деятельности по тем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агностика сформированности навыка мытья рук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заимодействие с деть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ведение схемы-алгоритма последовательности  мытья ру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ыгрывание ситуации «Надо, надо умываться!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заимодействие с родителя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кетирование родителей на тему: </a:t>
            </a:r>
            <a:r>
              <a:rPr b="0" lang="ru-RU" sz="2200" spc="-1" strike="noStrike" u="sng">
                <a:solidFill>
                  <a:srgbClr val="2aa2da"/>
                </a:solidFill>
                <a:uFillTx/>
                <a:latin typeface="Calibri"/>
                <a:hlinkClick r:id="rId1"/>
              </a:rPr>
              <a:t>«Формирование культурно-гигиенических навыков у вашего ребё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23640" y="33336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274fa4"/>
                </a:solidFill>
                <a:latin typeface="Calibri"/>
              </a:rPr>
              <a:t>ОСНОВНОЙ ЭТАП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заимодействие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ация  мероприятий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2aa2da"/>
                </a:solidFill>
                <a:uFillTx/>
                <a:latin typeface="Calibri"/>
                <a:hlinkClick r:id="rId1"/>
              </a:rPr>
              <a:t>Образовательная деяте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местная образовательная деятельность в режимных момент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заимодействие с родителя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родительского собрания «Воспитание культурно – гигиенических навыков у детей раннего возраст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Консультации для родителей:  "Формирование культурно-гигиенических навыков у детей раннего возраста«, «Роль фольклора в формировании культурно-гигиенических навыков у детей раннего возраст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08:03:39Z</dcterms:created>
  <dc:creator>student</dc:creator>
  <dc:description/>
  <dc:language>en-US</dc:language>
  <cp:lastModifiedBy>Балуева Ольга</cp:lastModifiedBy>
  <dcterms:modified xsi:type="dcterms:W3CDTF">2016-04-25T11:37:33Z</dcterms:modified>
  <cp:revision>89</cp:revision>
  <dc:subject/>
  <dc:title>Название образовательного мероприятия ( занятие, экскурсия, проект, мероприятие с родителями и др.)</dc:title>
</cp:coreProperties>
</file>